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1A42-196C-4917-B1B5-F8392199D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9E88-A598-4BE7-A619-C2916EB75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3D01-3374-45BE-96B5-A7632C5C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D2C2-EA2C-492A-BD30-D1F419A3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4CE8C-2693-4ADD-937F-7489C2438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7E44-0BCE-4425-ABC8-6134F383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B72D-7FE3-4F3E-B595-F47D5612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D7CB-2805-4DAC-B56B-F29CFB7F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8505-88F4-4388-8090-13E26C84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97B8-0C6F-4C3C-97FA-6C21E2DC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3828-9A75-4AA8-ACA6-0C513CD7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873-30EB-45F4-83E4-D128A49F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9353D-C973-4771-87A7-877E8A76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6A49-1BD5-4919-BF0C-B16FF70F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6406-B5D2-4302-BFCA-665C2CF1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D9E0-4BA3-4CD9-907D-B6B594270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982B-B87A-44DA-A965-EF7661AB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E8DE-4E09-44FF-BBE0-1088BFC5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1D4B-6BD8-4F3B-ABFC-883BE0B4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8589-BE74-4EDE-AF0C-CA1735D0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2762A-7338-4272-BFFF-DD16B55B2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1B59C-D168-49DD-A7B7-8801025F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7CCF-7720-47D6-ACEB-E6010329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EACA5-352B-46E8-9A92-2AAAE579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538D4-D2D2-4EDF-860D-B56EEC47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30499-8123-4328-80AA-A835DA02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BBA1D-2BEC-4661-9765-9A1257E2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1A6B9-8F95-4CB8-A369-83E93F61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5E6D8-A375-455F-8488-6459F1F1F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0078-E1BB-43F3-B219-69447665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3FAC-492C-4CD7-B43A-038FD629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662-A2E6-4EC6-8C42-E77F66D19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48B-D346-4AD7-8CF8-BE698CB5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BD4-6774-4272-A958-B2F014AC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5A38-93E8-4CC1-881E-F606EEBD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FABE-255B-46B2-ADA7-CECA87CD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0017-63B8-4077-AB40-81866390AE02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DAB4-A153-44F0-89CF-7A4743B7E3BB}" type="slidenum">
              <a:rPr b="1" lang="zh-TW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5521-2019-47E7-953C-65A95AB6C3D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ymxx@140.129.162.12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trac.nchc.org.tw/grid/wiki/mpich" TargetMode="Externa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://www-unix.mcs.anl.gov/mpi/mpich1/docs.html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trac.nchc.org.tw/grid/changeset/1" TargetMode="External"/><Relationship Id="rId2" Type="http://schemas.openxmlformats.org/officeDocument/2006/relationships/hyperlink" Target="https://trac.nchc.org.tw/grid/changeset/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平行運算簡介／實例操作</a:t>
            </a:r>
            <a:br>
              <a:rPr sz="3600"/>
            </a:b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企鵝也會的 </a:t>
            </a:r>
            <a:r>
              <a:rPr b="1" lang="zh-TW" sz="3600" spc="-1" strike="noStrike">
                <a:solidFill>
                  <a:srgbClr val="0033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鄧偉華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6666"/>
                </a:solidFill>
                <a:latin typeface="Arial"/>
              </a:rPr>
              <a:t>wade@nchc.org.tw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572000" y="6126120"/>
            <a:ext cx="45720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906560" y="4221000"/>
            <a:ext cx="1296720" cy="720720"/>
            <a:chOff x="1906560" y="4221000"/>
            <a:chExt cx="1296720" cy="720720"/>
          </a:xfrm>
        </p:grpSpPr>
        <p:sp>
          <p:nvSpPr>
            <p:cNvPr id="228" name=""/>
            <p:cNvSpPr/>
            <p:nvPr/>
          </p:nvSpPr>
          <p:spPr>
            <a:xfrm>
              <a:off x="190656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5092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651640" y="4221000"/>
            <a:ext cx="1296720" cy="720720"/>
            <a:chOff x="5651640" y="4221000"/>
            <a:chExt cx="1296720" cy="720720"/>
          </a:xfrm>
        </p:grpSpPr>
        <p:sp>
          <p:nvSpPr>
            <p:cNvPr id="231" name=""/>
            <p:cNvSpPr/>
            <p:nvPr/>
          </p:nvSpPr>
          <p:spPr>
            <a:xfrm>
              <a:off x="5651640" y="4221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796000" y="4363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33" name=""/>
          <p:cNvCxnSpPr>
            <a:stCxn id="228" idx="3"/>
            <a:endCxn id="231" idx="1"/>
          </p:cNvCxnSpPr>
          <p:nvPr/>
        </p:nvCxnSpPr>
        <p:spPr>
          <a:xfrm>
            <a:off x="3203640" y="4581000"/>
            <a:ext cx="244872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234" name=""/>
          <p:cNvSpPr/>
          <p:nvPr/>
        </p:nvSpPr>
        <p:spPr>
          <a:xfrm>
            <a:off x="5506920" y="44388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30560" y="443700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間只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傳訊息給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9 2.58094E-006 L -0.2559 -0.00023 E">
                                      <p:cBhvr>
                                        <p:cTn id="9" dur="2000" fill="hold"/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8" dur="2000" fill="hold"/>
                                        <p:tgtEl>
                                          <p:spTgt spid="2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37" name=""/>
          <p:cNvCxnSpPr>
            <a:stCxn id="238" idx="3"/>
            <a:endCxn id="239" idx="1"/>
          </p:cNvCxnSpPr>
          <p:nvPr/>
        </p:nvCxnSpPr>
        <p:spPr>
          <a:xfrm>
            <a:off x="3203640" y="486900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3"/>
            <a:endCxn id="241" idx="1"/>
          </p:cNvCxnSpPr>
          <p:nvPr/>
        </p:nvCxnSpPr>
        <p:spPr>
          <a:xfrm>
            <a:off x="3203640" y="486900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有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906560" y="4508640"/>
            <a:ext cx="1296720" cy="720720"/>
            <a:chOff x="1906560" y="4508640"/>
            <a:chExt cx="1296720" cy="720720"/>
          </a:xfrm>
        </p:grpSpPr>
        <p:sp>
          <p:nvSpPr>
            <p:cNvPr id="238" name=""/>
            <p:cNvSpPr/>
            <p:nvPr/>
          </p:nvSpPr>
          <p:spPr>
            <a:xfrm>
              <a:off x="1906560" y="450864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50920" y="465156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51640" y="2924280"/>
            <a:ext cx="1296720" cy="720720"/>
            <a:chOff x="5651640" y="2924280"/>
            <a:chExt cx="1296720" cy="720720"/>
          </a:xfrm>
        </p:grpSpPr>
        <p:sp>
          <p:nvSpPr>
            <p:cNvPr id="247" name=""/>
            <p:cNvSpPr/>
            <p:nvPr/>
          </p:nvSpPr>
          <p:spPr>
            <a:xfrm>
              <a:off x="5651640" y="29242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96000" y="30672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49" name=""/>
          <p:cNvCxnSpPr>
            <a:stCxn id="238" idx="3"/>
            <a:endCxn id="247" idx="1"/>
          </p:cNvCxnSpPr>
          <p:nvPr/>
        </p:nvCxnSpPr>
        <p:spPr>
          <a:xfrm flipV="1">
            <a:off x="3203640" y="328392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50" name=""/>
          <p:cNvGrpSpPr/>
          <p:nvPr/>
        </p:nvGrpSpPr>
        <p:grpSpPr>
          <a:xfrm>
            <a:off x="5653080" y="4003560"/>
            <a:ext cx="1296720" cy="720720"/>
            <a:chOff x="5653080" y="4003560"/>
            <a:chExt cx="1296720" cy="720720"/>
          </a:xfrm>
        </p:grpSpPr>
        <p:sp>
          <p:nvSpPr>
            <p:cNvPr id="251" name=""/>
            <p:cNvSpPr/>
            <p:nvPr/>
          </p:nvSpPr>
          <p:spPr>
            <a:xfrm>
              <a:off x="5653080" y="4003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97440" y="4146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5653080" y="5011560"/>
            <a:ext cx="1296720" cy="720720"/>
            <a:chOff x="5653080" y="5011560"/>
            <a:chExt cx="1296720" cy="720720"/>
          </a:xfrm>
        </p:grpSpPr>
        <p:sp>
          <p:nvSpPr>
            <p:cNvPr id="239" name=""/>
            <p:cNvSpPr/>
            <p:nvPr/>
          </p:nvSpPr>
          <p:spPr>
            <a:xfrm>
              <a:off x="5653080" y="50115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97440" y="51544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5653080" y="6019920"/>
            <a:ext cx="1296720" cy="720720"/>
            <a:chOff x="5653080" y="6019920"/>
            <a:chExt cx="1296720" cy="720720"/>
          </a:xfrm>
        </p:grpSpPr>
        <p:sp>
          <p:nvSpPr>
            <p:cNvPr id="241" name=""/>
            <p:cNvSpPr/>
            <p:nvPr/>
          </p:nvSpPr>
          <p:spPr>
            <a:xfrm>
              <a:off x="5653080" y="60199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797440" y="61628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57" name=""/>
          <p:cNvCxnSpPr>
            <a:stCxn id="238" idx="3"/>
            <a:endCxn id="251" idx="1"/>
          </p:cNvCxnSpPr>
          <p:nvPr/>
        </p:nvCxnSpPr>
        <p:spPr>
          <a:xfrm flipV="1">
            <a:off x="3203640" y="4363200"/>
            <a:ext cx="2449800" cy="5058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58" name=""/>
          <p:cNvSpPr/>
          <p:nvPr/>
        </p:nvSpPr>
        <p:spPr>
          <a:xfrm>
            <a:off x="3059280" y="472428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333 -0.00185 L 0.13333 -0.23148 L 0.26667 -0.23148 E">
                                      <p:cBhvr>
                                        <p:cTn id="27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96296E-006 L 0.13472 2.96296E-006 L 0.13472 -0.07407 L 0.26806 -0.07407 E">
                                      <p:cBhvr>
                                        <p:cTn id="30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96296E-006 L 0.13472 2.96296E-006 L 0.13472 0.07222 L 0.26667 0.07222 E">
                                      <p:cBhvr>
                                        <p:cTn id="33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L 0.13333 1.11111E-006 L 0.13333 0.22037 L 0.26944 0.22037 E">
                                      <p:cBhvr>
                                        <p:cTn id="36" dur="3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9" name=""/>
          <p:cNvCxnSpPr>
            <a:stCxn id="260" idx="3"/>
            <a:endCxn id="261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2" name=""/>
          <p:cNvCxnSpPr>
            <a:stCxn id="260" idx="3"/>
            <a:endCxn id="263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64" name=""/>
          <p:cNvCxnSpPr>
            <a:stCxn id="260" idx="3"/>
            <a:endCxn id="265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也可以多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丟訊息給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int to point communication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60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71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73" name=""/>
          <p:cNvCxnSpPr>
            <a:stCxn id="260" idx="3"/>
            <a:endCxn id="271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74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63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65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61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45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5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6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000"/>
                            </p:stCondLst>
                            <p:childTnLst>
                              <p:par>
                                <p:cTn id="6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72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時傳訊息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286" name=""/>
          <p:cNvCxnSpPr>
            <a:stCxn id="287" idx="3"/>
            <a:endCxn id="288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89" name=""/>
          <p:cNvCxnSpPr>
            <a:stCxn id="287" idx="3"/>
            <a:endCxn id="290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91" name=""/>
          <p:cNvCxnSpPr>
            <a:stCxn id="287" idx="3"/>
            <a:endCxn id="292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293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287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296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298" name=""/>
          <p:cNvCxnSpPr>
            <a:stCxn id="287" idx="3"/>
            <a:endCxn id="296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299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290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292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288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83" dur="3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87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91" dur="3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95" dur="3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llective communic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311" idx="3"/>
            <a:endCxn id="312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3" name=""/>
          <p:cNvCxnSpPr>
            <a:stCxn id="311" idx="3"/>
            <a:endCxn id="314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15" name=""/>
          <p:cNvCxnSpPr>
            <a:stCxn id="311" idx="3"/>
            <a:endCxn id="316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11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20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22" name=""/>
          <p:cNvCxnSpPr>
            <a:stCxn id="311" idx="3"/>
            <a:endCxn id="320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23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14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16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12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1640" y="4653000"/>
            <a:ext cx="431640" cy="4316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每個訊息做完運算後再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103" dur="30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107" dur="30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111" dur="30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115" dur="3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登入主機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 </a:t>
            </a:r>
            <a:r>
              <a:rPr b="0" lang="zh-TW" sz="20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ymxx@140.129.162.12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輸入密碼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產生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public key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sh-keygen -t rs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一直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nter.....enter....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將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id_rsa.pub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更名為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authorized_keys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 .ssh/id_rsa.pub .ssh/authorized_key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.conf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cho "MPD_SECRETWORD=${user}$$" &gt; ~/.mpd.con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登入主機設定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環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更改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.mpd.conf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權限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chmod 600 .mpd.conf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pd.hosts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nodes IP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填入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for ((i=2;i&lt;=7;i++)); do echo "192.168.129.$i" &gt;&gt; mpd.hosts; don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設定路徑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export PATH=$PATH:/opt/mpich2/bin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測試路徑是正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which 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正常顯示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/opt/mpich2/bin/mpdboot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mkdir .ds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cp mpd.hosts .dsh/machines.li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dsh -a hostname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啟動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boo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並開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7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7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測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否正常啟動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ringtest 1000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釋放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如何執行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程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啟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boot -n 4 [ -f machine_file 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n how many mpds to sta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-f hostsfil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列出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tra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執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exec -n 12 ./mpi/a.ou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結束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dallexi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00000" y="974520"/>
            <a:ext cx="6416640" cy="101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如何使用載入／啟動 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873720" y="2403000"/>
            <a:ext cx="5985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stdio.h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#include &lt;mpi.h&gt;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ain (int argc, char **argv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Init(&amp;argc, &amp;argv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size (MPI_COMM_WORLD,  &amp;numprocs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Comm_rank (MPI_COMM_WORLD,  &amp;myid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PI_Finalize(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900000" y="2708280"/>
            <a:ext cx="223200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116000" y="3716280"/>
            <a:ext cx="2664000" cy="43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52000" y="3056760"/>
            <a:ext cx="30654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啟動該程式在多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上的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5157720"/>
            <a:ext cx="2664000" cy="358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84840" y="5664960"/>
            <a:ext cx="14151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結束平行計算工作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042920" y="4076640"/>
            <a:ext cx="5834160" cy="2890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49680" y="3577320"/>
            <a:ext cx="316584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參與平行計算的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個數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(nproc)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42920" y="4365720"/>
            <a:ext cx="5616720" cy="287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48880" y="4801320"/>
            <a:ext cx="299556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得知我是第幾個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標楷體"/>
              </a:rPr>
              <a:t>CPU (myid) from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0E98-C69B-404B-99B2-686A60C7C1D1}" type="slidenum">
              <a:t>19</a:t>
            </a:fld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傳統：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3673440"/>
            <a:ext cx="769320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印出，並且將所有的參與活動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總數也印出，顯示出自己的主機名稱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LO MPI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ain (int argc, char **argv) {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rank, size, len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char name[MPI_MAX_PROCESSOR_NAME]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總數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node id / rank */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Comm_rank(MPI_COMM_WORLD,&amp;myid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取得本身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host name */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Get_processor_name(name, &amp;len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printf("This is machine %d of %d name = %s\n“, myid, numprocs, name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Sen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MPI_Send ((void *)&amp;data, icount, DATA_TYPE, idest, itag, MPI_COMM_WORLD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es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送出去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c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 void *buf, int count, MPI_Datatype datatype, int source, int tag, MPI_Comm comm, MPI_Status *status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_TYP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ource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收受資料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PU id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tag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接收的資料標籤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COMM_WORLD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目標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自己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資訊送給下一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122560" y="4437000"/>
            <a:ext cx="1296720" cy="720720"/>
            <a:chOff x="2122560" y="4437000"/>
            <a:chExt cx="1296720" cy="720720"/>
          </a:xfrm>
        </p:grpSpPr>
        <p:sp>
          <p:nvSpPr>
            <p:cNvPr id="367" name=""/>
            <p:cNvSpPr/>
            <p:nvPr/>
          </p:nvSpPr>
          <p:spPr>
            <a:xfrm>
              <a:off x="212256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26692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867280" y="4437000"/>
            <a:ext cx="1296720" cy="720720"/>
            <a:chOff x="5867280" y="4437000"/>
            <a:chExt cx="1296720" cy="720720"/>
          </a:xfrm>
        </p:grpSpPr>
        <p:sp>
          <p:nvSpPr>
            <p:cNvPr id="370" name=""/>
            <p:cNvSpPr/>
            <p:nvPr/>
          </p:nvSpPr>
          <p:spPr>
            <a:xfrm>
              <a:off x="5867280" y="443700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011640" y="457992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2" name=""/>
          <p:cNvCxnSpPr>
            <a:stCxn id="367" idx="3"/>
            <a:endCxn id="370" idx="1"/>
          </p:cNvCxnSpPr>
          <p:nvPr/>
        </p:nvCxnSpPr>
        <p:spPr>
          <a:xfrm>
            <a:off x="3419280" y="4797000"/>
            <a:ext cx="244836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73" name=""/>
          <p:cNvGrpSpPr/>
          <p:nvPr/>
        </p:nvGrpSpPr>
        <p:grpSpPr>
          <a:xfrm>
            <a:off x="3995640" y="5950080"/>
            <a:ext cx="1296720" cy="720720"/>
            <a:chOff x="3995640" y="5950080"/>
            <a:chExt cx="1296720" cy="720720"/>
          </a:xfrm>
        </p:grpSpPr>
        <p:sp>
          <p:nvSpPr>
            <p:cNvPr id="374" name=""/>
            <p:cNvSpPr/>
            <p:nvPr/>
          </p:nvSpPr>
          <p:spPr>
            <a:xfrm>
              <a:off x="3995640" y="595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40000" y="609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76" name=""/>
          <p:cNvCxnSpPr>
            <a:stCxn id="367" idx="2"/>
            <a:endCxn id="374" idx="1"/>
          </p:cNvCxnSpPr>
          <p:nvPr/>
        </p:nvCxnSpPr>
        <p:spPr>
          <a:xfrm flipH="1" rot="16200000">
            <a:off x="2807280" y="512172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77" name=""/>
          <p:cNvCxnSpPr>
            <a:stCxn id="370" idx="2"/>
            <a:endCxn id="374" idx="3"/>
          </p:cNvCxnSpPr>
          <p:nvPr/>
        </p:nvCxnSpPr>
        <p:spPr>
          <a:xfrm rot="5400000">
            <a:off x="5327640" y="5122080"/>
            <a:ext cx="1153440" cy="122472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378" name=""/>
          <p:cNvSpPr/>
          <p:nvPr/>
        </p:nvSpPr>
        <p:spPr>
          <a:xfrm>
            <a:off x="291636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59640" y="458136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88000" y="609300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0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11111E-006 L 0.30139 0.00185 E">
                                      <p:cBhvr>
                                        <p:cTn id="198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81481E-006 L -0.04028 0.05 L -0.04028 0.21667 L -0.17361 0.21667 E">
                                      <p:cBhvr>
                                        <p:cTn id="207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6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96296E-006 L -0.24444 -0.00185 L -0.24444 -0.17037 E">
                                      <p:cBhvr>
                                        <p:cTn id="21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mpi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ain(int argc,char **argv) {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nt n, myrank, numproc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tatus stat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Init(&amp;argc,&amp;arg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size(MPI_COMM_WORLD,&amp;numproc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Comm_rank(MPI_COMM_WORLD,&amp;myrank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0 will send the first messag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 == 0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Send(&amp;n, 1, MPI_INT, 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node 1 to node n-2 will send message to the next nod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&gt;0 &amp;&amp; myrank&lt;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n = myrank; MPI_Send(&amp;n, 1, MPI_INT, myrank+1, 99, MPI_COMM_WORLD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dde %d]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gt;&gt; [Node %d]\n\n", myrank, n, myrank+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/* the final node n-1 will not send any message but receive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if(myrank==numprocs-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Recv(&amp;n, 1, MPI_INT, myrank-1, 99, MPI_COMM_WORLD, &amp;statu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printf("[Node %d] &lt;&lt;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%d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」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[Node %d]\n", myrank, n, status.MPI_SOUR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MPI_Fin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傳送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，由，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統一印出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384" name=""/>
          <p:cNvCxnSpPr>
            <a:stCxn id="385" idx="3"/>
            <a:endCxn id="386" idx="1"/>
          </p:cNvCxnSpPr>
          <p:nvPr/>
        </p:nvCxnSpPr>
        <p:spPr>
          <a:xfrm>
            <a:off x="3203640" y="4870440"/>
            <a:ext cx="2449800" cy="1512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7" name=""/>
          <p:cNvCxnSpPr>
            <a:stCxn id="385" idx="3"/>
            <a:endCxn id="388" idx="1"/>
          </p:cNvCxnSpPr>
          <p:nvPr/>
        </p:nvCxnSpPr>
        <p:spPr>
          <a:xfrm flipV="1">
            <a:off x="3203640" y="4365360"/>
            <a:ext cx="2449800" cy="50544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389" name=""/>
          <p:cNvCxnSpPr>
            <a:stCxn id="385" idx="3"/>
            <a:endCxn id="390" idx="1"/>
          </p:cNvCxnSpPr>
          <p:nvPr/>
        </p:nvCxnSpPr>
        <p:spPr>
          <a:xfrm>
            <a:off x="3203640" y="4870440"/>
            <a:ext cx="2449800" cy="504000"/>
          </a:xfrm>
          <a:prstGeom prst="bentConnector3">
            <a:avLst>
              <a:gd name="adj1" fmla="val 49970"/>
            </a:avLst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391" name=""/>
          <p:cNvGrpSpPr/>
          <p:nvPr/>
        </p:nvGrpSpPr>
        <p:grpSpPr>
          <a:xfrm>
            <a:off x="1906560" y="4510080"/>
            <a:ext cx="1296720" cy="720720"/>
            <a:chOff x="1906560" y="4510080"/>
            <a:chExt cx="1296720" cy="720720"/>
          </a:xfrm>
        </p:grpSpPr>
        <p:sp>
          <p:nvSpPr>
            <p:cNvPr id="385" name=""/>
            <p:cNvSpPr/>
            <p:nvPr/>
          </p:nvSpPr>
          <p:spPr>
            <a:xfrm>
              <a:off x="1906560" y="451008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050920" y="465300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5651640" y="2925720"/>
            <a:ext cx="1296720" cy="720720"/>
            <a:chOff x="5651640" y="2925720"/>
            <a:chExt cx="1296720" cy="720720"/>
          </a:xfrm>
        </p:grpSpPr>
        <p:sp>
          <p:nvSpPr>
            <p:cNvPr id="394" name=""/>
            <p:cNvSpPr/>
            <p:nvPr/>
          </p:nvSpPr>
          <p:spPr>
            <a:xfrm>
              <a:off x="5651640" y="292572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96000" y="306864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396" name=""/>
          <p:cNvCxnSpPr>
            <a:stCxn id="385" idx="3"/>
            <a:endCxn id="394" idx="1"/>
          </p:cNvCxnSpPr>
          <p:nvPr/>
        </p:nvCxnSpPr>
        <p:spPr>
          <a:xfrm flipV="1">
            <a:off x="3203640" y="3285360"/>
            <a:ext cx="2448720" cy="1585080"/>
          </a:xfrm>
          <a:prstGeom prst="bentConnector3">
            <a:avLst>
              <a:gd name="adj1" fmla="val 49933"/>
            </a:avLst>
          </a:prstGeom>
          <a:ln w="38160">
            <a:solidFill>
              <a:srgbClr val="003366"/>
            </a:solidFill>
            <a:miter/>
          </a:ln>
        </p:spPr>
      </p:cxnSp>
      <p:sp>
        <p:nvSpPr>
          <p:cNvPr id="397" name=""/>
          <p:cNvSpPr/>
          <p:nvPr/>
        </p:nvSpPr>
        <p:spPr>
          <a:xfrm>
            <a:off x="5506920" y="314172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5653080" y="4005360"/>
            <a:ext cx="1296720" cy="720720"/>
            <a:chOff x="5653080" y="4005360"/>
            <a:chExt cx="1296720" cy="720720"/>
          </a:xfrm>
        </p:grpSpPr>
        <p:sp>
          <p:nvSpPr>
            <p:cNvPr id="388" name=""/>
            <p:cNvSpPr/>
            <p:nvPr/>
          </p:nvSpPr>
          <p:spPr>
            <a:xfrm>
              <a:off x="5653080" y="4005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797440" y="4148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5508720" y="4221000"/>
            <a:ext cx="2156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5653080" y="5013360"/>
            <a:ext cx="1296720" cy="720720"/>
            <a:chOff x="5653080" y="5013360"/>
            <a:chExt cx="1296720" cy="720720"/>
          </a:xfrm>
        </p:grpSpPr>
        <p:sp>
          <p:nvSpPr>
            <p:cNvPr id="390" name=""/>
            <p:cNvSpPr/>
            <p:nvPr/>
          </p:nvSpPr>
          <p:spPr>
            <a:xfrm>
              <a:off x="5653080" y="5013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7440" y="5156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3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508720" y="5229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53080" y="6021360"/>
            <a:ext cx="1296720" cy="720720"/>
            <a:chOff x="5653080" y="6021360"/>
            <a:chExt cx="1296720" cy="720720"/>
          </a:xfrm>
        </p:grpSpPr>
        <p:sp>
          <p:nvSpPr>
            <p:cNvPr id="386" name=""/>
            <p:cNvSpPr/>
            <p:nvPr/>
          </p:nvSpPr>
          <p:spPr>
            <a:xfrm>
              <a:off x="5653080" y="602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7440" y="616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508720" y="6237360"/>
            <a:ext cx="2156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-4.44444E-006 L -0.13472 -4.44444E-006 L -0.13472 0.22963 L -0.26805 0.22963 E">
                                      <p:cBhvr>
                                        <p:cTn id="228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000"/>
                            </p:stCondLst>
                            <p:childTnLst>
                              <p:par>
                                <p:cTn id="2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55556E-006 L -0.13334 5.55556E-006 L -0.13334 0.07223 L -0.26806 0.07223 E">
                                      <p:cBhvr>
                                        <p:cTn id="237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000"/>
                            </p:stCondLst>
                            <p:childTnLst>
                              <p:par>
                                <p:cTn id="2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6000"/>
                            </p:stCondLst>
                            <p:childTnLst>
                              <p:par>
                                <p:cTn id="2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1.85185E-006 L -0.13473 1.85185E-006 L -0.13612 -0.07222 L -0.27084 -0.07407 E">
                                      <p:cBhvr>
                                        <p:cTn id="246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90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44444E-006 L -0.13195 4.44444E-006 L -0.13334 -0.22222 L -0.26667 -0.22222 E">
                                      <p:cBhvr>
                                        <p:cTn id="255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487000" cy="43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ain(int argc, char **argv)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Node 0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== 0) {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receive messages from other nodes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……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cv(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other Nodes will do the following */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f(myrank != 0) {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/* send node's rank to Node 0 */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Send(message, 20, MPI_CHAR, 0, 99, MPI_COMM_WORLD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什麼是平行計算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(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續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程序切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 </a:t>
            </a: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CP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55640" y="4002120"/>
            <a:ext cx="799308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再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讓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可以接受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訊息，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將訊息標上不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 (0, 1, 2...)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後傳給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851280" y="4581360"/>
            <a:ext cx="1296720" cy="720720"/>
            <a:chOff x="3851280" y="4581360"/>
            <a:chExt cx="1296720" cy="720720"/>
          </a:xfrm>
        </p:grpSpPr>
        <p:sp>
          <p:nvSpPr>
            <p:cNvPr id="414" name=""/>
            <p:cNvSpPr/>
            <p:nvPr/>
          </p:nvSpPr>
          <p:spPr>
            <a:xfrm>
              <a:off x="385128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99564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0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946920" y="4581360"/>
            <a:ext cx="1296720" cy="720720"/>
            <a:chOff x="6946920" y="4581360"/>
            <a:chExt cx="1296720" cy="720720"/>
          </a:xfrm>
        </p:grpSpPr>
        <p:sp>
          <p:nvSpPr>
            <p:cNvPr id="417" name=""/>
            <p:cNvSpPr/>
            <p:nvPr/>
          </p:nvSpPr>
          <p:spPr>
            <a:xfrm>
              <a:off x="694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9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19" name=""/>
          <p:cNvCxnSpPr>
            <a:stCxn id="414" idx="3"/>
            <a:endCxn id="417" idx="1"/>
          </p:cNvCxnSpPr>
          <p:nvPr/>
        </p:nvCxnSpPr>
        <p:spPr>
          <a:xfrm>
            <a:off x="5148360" y="4941360"/>
            <a:ext cx="179928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grpSp>
        <p:nvGrpSpPr>
          <p:cNvPr id="420" name=""/>
          <p:cNvGrpSpPr/>
          <p:nvPr/>
        </p:nvGrpSpPr>
        <p:grpSpPr>
          <a:xfrm>
            <a:off x="826920" y="4581360"/>
            <a:ext cx="1296720" cy="720720"/>
            <a:chOff x="826920" y="4581360"/>
            <a:chExt cx="1296720" cy="720720"/>
          </a:xfrm>
        </p:grpSpPr>
        <p:sp>
          <p:nvSpPr>
            <p:cNvPr id="421" name=""/>
            <p:cNvSpPr/>
            <p:nvPr/>
          </p:nvSpPr>
          <p:spPr>
            <a:xfrm>
              <a:off x="826920" y="4581360"/>
              <a:ext cx="1296720" cy="72072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971280" y="4724280"/>
              <a:ext cx="1008000" cy="4320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  <a:ea typeface="標楷體"/>
                </a:rPr>
                <a:t>node-02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cxnSp>
        <p:nvCxnSpPr>
          <p:cNvPr id="423" name=""/>
          <p:cNvCxnSpPr>
            <a:stCxn id="414" idx="1"/>
            <a:endCxn id="421" idx="3"/>
          </p:cNvCxnSpPr>
          <p:nvPr/>
        </p:nvCxnSpPr>
        <p:spPr>
          <a:xfrm rot="10800000">
            <a:off x="2123280" y="4941000"/>
            <a:ext cx="1728000" cy="1080"/>
          </a:xfrm>
          <a:prstGeom prst="bentConnector2">
            <a:avLst/>
          </a:prstGeom>
          <a:ln w="38160">
            <a:solidFill>
              <a:srgbClr val="003366"/>
            </a:solidFill>
            <a:miter/>
          </a:ln>
        </p:spPr>
      </p:cxnSp>
      <p:sp>
        <p:nvSpPr>
          <p:cNvPr id="424" name=""/>
          <p:cNvSpPr/>
          <p:nvPr/>
        </p:nvSpPr>
        <p:spPr>
          <a:xfrm>
            <a:off x="680400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979640" y="4797360"/>
            <a:ext cx="21600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3.7037E-007 L -0.19305 0.00023 E">
                                      <p:cBhvr>
                                        <p:cTn id="26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1.85185E-006 L 0.19027 0.00023 E">
                                      <p:cBhvr>
                                        <p:cTn id="276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提示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SOURC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來自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訊息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ANY_TAG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接收任何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tag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Reduc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Reduce ( void *sendbuf, void *recvbuf, int count, MPI_Datatype datatype, MPI_Op op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sendbuf   address of send buffer (choic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     number of elements in send buffer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data type of elements of send buffer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op            reduce operation (handl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ank of root process (integ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communicator (handle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計算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1 + 2 + 3 + .... + 10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stdio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#include &lt;mpi.h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rank, size, i; int myid, numprocs; int myTotal = 0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nt Total = 0; MPI_Init(&amp;argc, &amp;argv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Comm_rank(MPI_COMM_WORLD, &amp;myi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for(i = 1; i &lt;= 100; i++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(i % numprocs) == myid) {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yTotal += i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Reduce(&amp;myTotal, &amp;Total, 1, MPI_INT, MPI_SUM, 0,MPI_COMM_WORLD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if(myid==0) {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printf("Total = %d\n", Total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3366"/>
                </a:solidFill>
                <a:latin typeface="Arial"/>
              </a:rPr>
              <a:t>}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5318280" cy="25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動手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計算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從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1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加至第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n </a:t>
            </a: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項總合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Fibonacci numb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n) = f(n - 1) + f(n - 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f(0) = 1, f(1) = 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66"/>
                </a:solidFill>
                <a:latin typeface="Arial"/>
              </a:rPr>
              <a:t>1, 1, 2, 3, 5, 8, ........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cas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_Bcast ( void *buffer, int count, MPI_Datatype datatype, int root, MPI_Comm comm 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buffer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起點，可以是純量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scala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或陣列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array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unt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資料數量，當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count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值大於一時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必須是陣列。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datatype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要傳送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(buffer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資料類別，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MPI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內定的資料類別。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root          root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id (rank)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是多少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33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(MPI_Comm comm 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comm     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通信域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需要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是為了讓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同步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只有當所有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執行完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_Barrier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時，所以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才再繼續往下執行下面的程式碼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為什麼要平行計算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簡省時間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解決大型問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即時性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更多來自網路上的資源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使用大量「便宜」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Cs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取代超級電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記憶體不足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無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負責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則有可能出現以下情形：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順利比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先執行到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cast A=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送出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2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、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 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還未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  <a:ea typeface="標楷體"/>
              </a:rPr>
              <a:t>MPI_Bcast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=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執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print A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     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則其它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中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結果就不會同步為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90000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250" autoRev="1" fill="hold"/>
                                        <p:tgtEl>
                                          <p:spTgt spid="4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250" autoRev="1" fill="hold"/>
                                        <p:tgtEl>
                                          <p:spTgt spid="4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4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500"/>
                            </p:stCondLst>
                            <p:childTnLst>
                              <p:par>
                                <p:cTn id="30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5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2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4" dur="250" autoRev="1" fill="hold"/>
                                        <p:tgtEl>
                                          <p:spTgt spid="4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250" autoRev="1" fill="hold"/>
                                        <p:tgtEl>
                                          <p:spTgt spid="4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250" autoRev="1" fill="hold"/>
                                        <p:tgtEl>
                                          <p:spTgt spid="4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32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70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7000"/>
                            </p:stCondLst>
                            <p:childTnLst>
                              <p:par>
                                <p:cTn id="34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4" dur="250" autoRev="1" fill="hold"/>
                                        <p:tgtEl>
                                          <p:spTgt spid="4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500"/>
                            </p:stCondLst>
                            <p:childTnLst>
                              <p:par>
                                <p:cTn id="35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9500"/>
                            </p:stCondLst>
                            <p:childTnLst>
                              <p:par>
                                <p:cTn id="3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8" dur="250" autoRev="1" fill="hold"/>
                                        <p:tgtEl>
                                          <p:spTgt spid="4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1" dur="250" autoRev="1" fill="hold"/>
                                        <p:tgtEl>
                                          <p:spTgt spid="4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4" dur="250" autoRev="1" fill="hold"/>
                                        <p:tgtEl>
                                          <p:spTgt spid="4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5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7" dur="250" autoRev="1" fill="hold"/>
                                        <p:tgtEl>
                                          <p:spTgt spid="4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96" dur="250" autoRev="1" fill="hold"/>
                                        <p:tgtEl>
                                          <p:spTgt spid="4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6000"/>
                            </p:stCondLst>
                            <p:childTnLst>
                              <p:par>
                                <p:cTn id="398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2" dur="250" autoRev="1" fill="hold"/>
                                        <p:tgtEl>
                                          <p:spTgt spid="4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5" dur="250" autoRev="1" fill="hold"/>
                                        <p:tgtEl>
                                          <p:spTgt spid="4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8500"/>
                            </p:stCondLst>
                            <p:childTnLst>
                              <p:par>
                                <p:cTn id="4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9500"/>
                            </p:stCondLst>
                            <p:childTnLst>
                              <p:par>
                                <p:cTn id="42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7" dur="250" autoRev="1" fill="hold"/>
                                        <p:tgtEl>
                                          <p:spTgt spid="4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250" autoRev="1" fill="hold"/>
                                        <p:tgtEl>
                                          <p:spTgt spid="4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35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4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4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有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_Barrie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58920" y="393372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58920" y="42940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58920" y="4654440"/>
            <a:ext cx="1871640" cy="43200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900000" y="5445000"/>
            <a:ext cx="8064720" cy="1413000"/>
          </a:xfrm>
          <a:prstGeom prst="roundRect">
            <a:avLst>
              <a:gd name="adj" fmla="val 49028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此時不管那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，皆會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等待，直至全部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執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完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MPI_Barrier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時才會繼續往下執行程式碼，如此一來才可確保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root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已經將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= 10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廣播出去，使每個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nodes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的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A 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都改為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10</a:t>
            </a:r>
            <a:r>
              <a:rPr b="0" lang="zh-TW" sz="1800" spc="-1" strike="noStrike">
                <a:solidFill>
                  <a:srgbClr val="006666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9564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9564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9564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99564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804000" y="393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arri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804000" y="429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print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804000" y="249228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804000" y="4653000"/>
            <a:ext cx="1871640" cy="431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  <a:ea typeface="標楷體"/>
              </a:rPr>
              <a:t>node 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25892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9564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9564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99564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804000" y="285264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804000" y="321300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unction b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804000" y="3573360"/>
            <a:ext cx="1871640" cy="360360"/>
          </a:xfrm>
          <a:prstGeom prst="rect">
            <a:avLst/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MPI_Bcast A=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90000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637080" y="256536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445080" y="256536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2781360"/>
            <a:ext cx="4608360" cy="1728720"/>
          </a:xfrm>
          <a:prstGeom prst="rightArrow">
            <a:avLst>
              <a:gd name="adj1" fmla="val 50000"/>
              <a:gd name="adj2" fmla="val 66644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66"/>
                </a:solidFill>
                <a:latin typeface="Arial"/>
              </a:rPr>
              <a:t>目前正在執行的程式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90000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637080" y="292572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445080" y="2925720"/>
            <a:ext cx="287640" cy="216000"/>
          </a:xfrm>
          <a:prstGeom prst="rightArrow">
            <a:avLst>
              <a:gd name="adj1" fmla="val 50000"/>
              <a:gd name="adj2" fmla="val 33292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90000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637080" y="328464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6445080" y="328464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90000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637080" y="364500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445080" y="364500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63708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445080" y="400536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000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637080" y="436572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5080" y="4365720"/>
            <a:ext cx="287640" cy="215640"/>
          </a:xfrm>
          <a:prstGeom prst="rightArrow">
            <a:avLst>
              <a:gd name="adj1" fmla="val 50000"/>
              <a:gd name="adj2" fmla="val 33347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80400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9564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258920" y="4365720"/>
            <a:ext cx="2089080" cy="1079280"/>
          </a:xfrm>
          <a:prstGeom prst="irregularSeal1">
            <a:avLst/>
          </a:prstGeom>
          <a:solidFill>
            <a:srgbClr val="ff00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= 10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226836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898560" y="4005360"/>
            <a:ext cx="287280" cy="215640"/>
          </a:xfrm>
          <a:prstGeom prst="rightArrow">
            <a:avLst>
              <a:gd name="adj1" fmla="val 50000"/>
              <a:gd name="adj2" fmla="val 33306"/>
            </a:avLst>
          </a:prstGeom>
          <a:solidFill>
            <a:srgbClr val="ff33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500544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812000" y="4653000"/>
            <a:ext cx="503280" cy="504720"/>
          </a:xfrm>
          <a:prstGeom prst="ellipse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exit" presetID="9">
                                  <p:stCondLst>
                                    <p:cond delay="1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000"/>
                            </p:stCondLst>
                            <p:childTnLst>
                              <p:par>
                                <p:cTn id="4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7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8" dur="250" autoRev="1" fill="hold"/>
                                        <p:tgtEl>
                                          <p:spTgt spid="5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0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1" dur="250" autoRev="1" fill="hold"/>
                                        <p:tgtEl>
                                          <p:spTgt spid="5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5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450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500"/>
                            </p:stCondLst>
                            <p:childTnLst>
                              <p:par>
                                <p:cTn id="49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2" dur="250" autoRev="1" fill="hold"/>
                                        <p:tgtEl>
                                          <p:spTgt spid="5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4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5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96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8" dur="250" autoRev="1" fill="hold"/>
                                        <p:tgtEl>
                                          <p:spTgt spid="5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7000"/>
                            </p:stCondLst>
                            <p:childTnLst>
                              <p:par>
                                <p:cTn id="5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1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2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5" dur="250" autoRev="1" fill="hold"/>
                                        <p:tgtEl>
                                          <p:spTgt spid="5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8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9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9500"/>
                            </p:stCondLst>
                            <p:childTnLst>
                              <p:par>
                                <p:cTn id="52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2" dur="250" autoRev="1" fill="hold"/>
                                        <p:tgtEl>
                                          <p:spTgt spid="5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1000"/>
                            </p:stCondLst>
                            <p:childTnLst>
                              <p:par>
                                <p:cTn id="534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2000"/>
                            </p:stCondLst>
                            <p:childTnLst>
                              <p:par>
                                <p:cTn id="544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6" dur="250" autoRev="1" fill="hold"/>
                                        <p:tgtEl>
                                          <p:spTgt spid="5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4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3500"/>
                            </p:stCondLst>
                            <p:childTnLst>
                              <p:par>
                                <p:cTn id="55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4500"/>
                            </p:stCondLst>
                            <p:childTnLst>
                              <p:par>
                                <p:cTn id="55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9" dur="250" autoRev="1" fill="hold"/>
                                        <p:tgtEl>
                                          <p:spTgt spid="5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6000"/>
                            </p:stCondLst>
                            <p:childTnLst>
                              <p:par>
                                <p:cTn id="56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6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250" autoRev="1" fill="hold"/>
                                        <p:tgtEl>
                                          <p:spTgt spid="5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8500"/>
                            </p:stCondLst>
                            <p:childTnLst>
                              <p:par>
                                <p:cTn id="57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577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250" autoRev="1" fill="hold"/>
                                        <p:tgtEl>
                                          <p:spTgt spid="5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fill="hold">
                            <p:stCondLst>
                              <p:cond delay="21000"/>
                            </p:stCondLst>
                            <p:childTnLst>
                              <p:par>
                                <p:cTn id="581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3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595" nodeType="after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7" dur="250" autoRev="1" fill="hold"/>
                                        <p:tgtEl>
                                          <p:spTgt spid="53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8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0" dur="250" autoRev="1" fill="hold"/>
                                        <p:tgtEl>
                                          <p:spTgt spid="5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26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3" dur="250" autoRev="1" fill="hold"/>
                                        <p:tgtEl>
                                          <p:spTgt spid="5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23500"/>
                            </p:stCondLst>
                            <p:childTnLst>
                              <p:par>
                                <p:cTn id="605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24500"/>
                            </p:stCondLst>
                            <p:childTnLst>
                              <p:par>
                                <p:cTn id="60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24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1" dur="250" autoRev="1" fill="hold"/>
                                        <p:tgtEl>
                                          <p:spTgt spid="5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4" dur="250" autoRev="1" fill="hold"/>
                                        <p:tgtEl>
                                          <p:spTgt spid="5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26" repeatCount="400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7" dur="250" autoRev="1" fill="hold"/>
                                        <p:tgtEl>
                                          <p:spTgt spid="5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範例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stdio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#include &lt;mpi.h&gt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ain (int argc, char **argv) {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i = 0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myid, numprocs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Init(&amp;argc, &amp;argv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size(MPI_COMM_WORLD, &amp;numprocs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Comm_rank(MPI_COMM_WORLD, &amp;myi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這邊先印出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初始狀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要求使用者輸入一個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NT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整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f (myid == 0) {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Please input a INT number &gt;&gt;"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scanf("%d", &amp;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會將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的值設為使用者所輸入的數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*/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cast(&amp;i, 1, MPI_INT, 0, MPI_COMM_WORLD);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/*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所有的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在此同步，以確認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 0 (root)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已將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送給所有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nodes */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Barrier(MPI_COMM_WORLD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printf("[Node %d] i = %d \n", myid, i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MPI_Finalize()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3366"/>
                </a:solidFill>
                <a:latin typeface="Arial"/>
              </a:rPr>
              <a:t>}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結果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838080" y="4797360"/>
            <a:ext cx="7693200" cy="20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我們可以發現到第二行很明顯的不同，這就是前面介紹，不一定誰會先執行到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PRINT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指令，所以我在第四行才能輸入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然後底下每個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node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的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i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都被設為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100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2" name="" descr=""/>
          <p:cNvPicPr/>
          <p:nvPr/>
        </p:nvPicPr>
        <p:blipFill>
          <a:blip r:embed="rId1"/>
          <a:srcRect l="0" t="0" r="20818" b="0"/>
          <a:stretch/>
        </p:blipFill>
        <p:spPr>
          <a:xfrm>
            <a:off x="755640" y="2292480"/>
            <a:ext cx="684072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MPICH </a:t>
            </a: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設計注意事項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PICH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屬於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SIMD 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架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指令及資料量切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優：有助於平行運算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3300"/>
                </a:solidFill>
                <a:latin typeface="Arial"/>
              </a:rPr>
              <a:t>缺：增加傳輸次數及傳輸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website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trac.nchc.org.tw/grid/wiki/mpic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mail</a:t>
            </a: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wade@nchc.org.t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參考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://www-unix.mcs.anl.gov/mpi/mpich1/docs.ht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-unix.mcs.anl.gov/mpi/www/www3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3366"/>
                </a:solidFill>
                <a:latin typeface="Arial"/>
              </a:rPr>
              <a:t>http://www.mpi-forum.org/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66"/>
                </a:solidFill>
                <a:latin typeface="Arial"/>
              </a:rPr>
              <a:t>平行計算種類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Flynn's taxonom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3366"/>
                </a:solidFill>
                <a:latin typeface="Arial"/>
              </a:rPr>
              <a:t>多處理器架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838080" y="3573360"/>
          <a:ext cx="7693200" cy="2946600"/>
        </p:xfrm>
        <a:graphic>
          <a:graphicData uri="http://schemas.openxmlformats.org/drawingml/2006/table">
            <a:tbl>
              <a:tblPr/>
              <a:tblGrid>
                <a:gridCol w="2365560"/>
                <a:gridCol w="2592360"/>
                <a:gridCol w="2735280"/>
              </a:tblGrid>
              <a:tr h="990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程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Instruction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97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單一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ng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S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多資料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ultiple Data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MIMD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ingle Instruction, Single Data (S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非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1 + 1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516640"/>
            <a:ext cx="1871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 1 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508644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20364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1456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04000" y="3933720"/>
            <a:ext cx="2089080" cy="100800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S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12664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單一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：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b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是二組陣列，則同一時間就可以計算完成。而不需要算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0]  = 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[0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1]  = b</a:t>
            </a:r>
            <a:r>
              <a:rPr b="0" lang="zh-TW" sz="1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[1]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 + 1…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再算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[n]  = b[n] + 1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516640"/>
            <a:ext cx="748980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  = b + 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6692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589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0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979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56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34800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06728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56720" y="414972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948360" y="4149720"/>
            <a:ext cx="79236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67640" y="508464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5640" y="4797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………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14560" y="3933720"/>
            <a:ext cx="6481800" cy="790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Single Instruction, Multiple Data(MIS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單一資料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3366"/>
                </a:solidFill>
                <a:latin typeface="Arial"/>
              </a:rPr>
              <a:t>a = (2 + 3) + (2 - 3) + (2 * 3) + (2 / 3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5892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+ 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32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4005360"/>
            <a:ext cx="792000" cy="57456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4328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-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6000" y="5229360"/>
            <a:ext cx="136836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*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867280" y="5229360"/>
            <a:ext cx="1368720" cy="504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2 / 3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800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859280" y="4799160"/>
            <a:ext cx="360360" cy="35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797360"/>
            <a:ext cx="360360" cy="35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64000" y="645336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76" idx="2"/>
            <a:endCxn id="186" idx="0"/>
          </p:cNvCxnSpPr>
          <p:nvPr/>
        </p:nvCxnSpPr>
        <p:spPr>
          <a:xfrm flipH="1" rot="16200000">
            <a:off x="2736000" y="4941000"/>
            <a:ext cx="720000" cy="2305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8" name=""/>
          <p:cNvCxnSpPr>
            <a:stCxn id="180" idx="2"/>
            <a:endCxn id="186" idx="0"/>
          </p:cNvCxnSpPr>
          <p:nvPr/>
        </p:nvCxnSpPr>
        <p:spPr>
          <a:xfrm flipH="1" rot="16200000">
            <a:off x="3528000" y="5733000"/>
            <a:ext cx="720000" cy="72144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89" name=""/>
          <p:cNvCxnSpPr>
            <a:stCxn id="181" idx="2"/>
            <a:endCxn id="186" idx="0"/>
          </p:cNvCxnSpPr>
          <p:nvPr/>
        </p:nvCxnSpPr>
        <p:spPr>
          <a:xfrm rot="5400000">
            <a:off x="4283640" y="5697360"/>
            <a:ext cx="720000" cy="79308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190" name=""/>
          <p:cNvCxnSpPr>
            <a:stCxn id="182" idx="2"/>
            <a:endCxn id="186" idx="0"/>
          </p:cNvCxnSpPr>
          <p:nvPr/>
        </p:nvCxnSpPr>
        <p:spPr>
          <a:xfrm rot="5400000">
            <a:off x="5039280" y="4941720"/>
            <a:ext cx="720000" cy="2304360"/>
          </a:xfrm>
          <a:prstGeom prst="bentConnector3">
            <a:avLst>
              <a:gd name="adj1" fmla="val 49874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191" name=""/>
          <p:cNvSpPr/>
          <p:nvPr/>
        </p:nvSpPr>
        <p:spPr>
          <a:xfrm>
            <a:off x="4033800" y="5805360"/>
            <a:ext cx="43200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834480" y="834120"/>
            <a:ext cx="79862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66"/>
                </a:solidFill>
                <a:latin typeface="Arial"/>
              </a:rPr>
              <a:t>Multiple Instruction, Multiple Data(MIMD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4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平行計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程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多資料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 = (b + c) + (d - e) + 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a, b, c, d, e, f, g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為陣列如果有三臺機器可分別執行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b + c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、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d - e)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及 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(f * g)</a:t>
            </a:r>
            <a:r>
              <a:rPr b="0" lang="zh-TW" sz="1800" spc="-1" strike="noStrike">
                <a:solidFill>
                  <a:srgbClr val="003366"/>
                </a:solidFill>
                <a:latin typeface="Arial"/>
              </a:rPr>
              <a:t>，則三個運算可同時進行。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58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5892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 +  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2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c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32000" y="387504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b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6364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6548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 - 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04000" y="5589720"/>
            <a:ext cx="1368360" cy="3603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 * 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07280" y="5375160"/>
            <a:ext cx="360360" cy="21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67280" y="6524640"/>
            <a:ext cx="1368360" cy="289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95" idx="2"/>
            <a:endCxn id="203" idx="0"/>
          </p:cNvCxnSpPr>
          <p:nvPr/>
        </p:nvCxnSpPr>
        <p:spPr>
          <a:xfrm flipH="1" rot="16200000">
            <a:off x="3060000" y="4833000"/>
            <a:ext cx="575280" cy="280872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5" name=""/>
          <p:cNvCxnSpPr>
            <a:stCxn id="199" idx="2"/>
            <a:endCxn id="203" idx="0"/>
          </p:cNvCxnSpPr>
          <p:nvPr/>
        </p:nvCxnSpPr>
        <p:spPr>
          <a:xfrm flipH="1" rot="16200000">
            <a:off x="4463280" y="6236280"/>
            <a:ext cx="575280" cy="216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</a:ln>
        </p:spPr>
      </p:cxnSp>
      <p:cxnSp>
        <p:nvCxnSpPr>
          <p:cNvPr id="206" name=""/>
          <p:cNvCxnSpPr>
            <a:stCxn id="200" idx="2"/>
            <a:endCxn id="203" idx="0"/>
          </p:cNvCxnSpPr>
          <p:nvPr/>
        </p:nvCxnSpPr>
        <p:spPr>
          <a:xfrm rot="5400000">
            <a:off x="5831640" y="4868640"/>
            <a:ext cx="575280" cy="2737800"/>
          </a:xfrm>
          <a:prstGeom prst="bentConnector3">
            <a:avLst>
              <a:gd name="adj1" fmla="val 49718"/>
            </a:avLst>
          </a:prstGeom>
          <a:ln w="38160">
            <a:solidFill>
              <a:srgbClr val="003366"/>
            </a:solidFill>
            <a:miter/>
            <a:tailEnd len="lg" type="triangle" w="lg"/>
          </a:ln>
        </p:spPr>
      </p:cxnSp>
      <p:sp>
        <p:nvSpPr>
          <p:cNvPr id="207" name=""/>
          <p:cNvSpPr/>
          <p:nvPr/>
        </p:nvSpPr>
        <p:spPr>
          <a:xfrm>
            <a:off x="4572000" y="6021360"/>
            <a:ext cx="360360" cy="300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+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258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52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c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332000" y="4809960"/>
            <a:ext cx="57600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b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6364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995640" y="379080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8944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e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068720" y="3876840"/>
            <a:ext cx="576360" cy="417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d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472608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8944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e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68720" y="48117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d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00720" y="43671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3789360"/>
            <a:ext cx="1441440" cy="57456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2472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g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387504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f[1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0920" y="4724280"/>
            <a:ext cx="1441440" cy="574920"/>
          </a:xfrm>
          <a:prstGeom prst="ellipse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52472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g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4809960"/>
            <a:ext cx="576360" cy="417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3366"/>
                </a:solidFill>
                <a:latin typeface="Arial"/>
                <a:ea typeface="標楷體"/>
              </a:rPr>
              <a:t>f[n]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236000" y="4365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標楷體"/>
              </a:rPr>
              <a:t>…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06:09:08Z</dcterms:created>
  <dc:creator>wsd</dc:creator>
  <dc:description/>
  <dc:language>en-US</dc:language>
  <cp:lastModifiedBy>wsd</cp:lastModifiedBy>
  <dcterms:modified xsi:type="dcterms:W3CDTF">2008-08-02T07:31:10Z</dcterms:modified>
  <cp:revision>31</cp:revision>
  <dc:subject/>
  <dc:title>投影片 1</dc:title>
</cp:coreProperties>
</file>