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681B-091D-4B3F-8799-55E18EFE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E4EE-55A1-44FF-99BA-757668AB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0FD3-F241-4386-900A-A618F22E7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C5D5-5C0C-4CCE-B5CE-24E8E0D3B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2FDD-38CA-4107-9AC0-2F9CFD56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5955-0AED-4CDE-81EA-06FE2332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927D-F7E8-457A-9A1D-98EB3A15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0430-6C1D-4A64-BCBF-71A64F79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4159-3175-4803-A814-D423ABE9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4E05-36FA-4D18-8C46-4D7C67E6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BDB2-2C5C-43A9-8897-628044C4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F5AC-4276-4A7C-8C89-EF5B15F9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6645-CCD7-4EDB-997F-66AF6C140285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334120" y="3962520"/>
            <a:ext cx="3275280" cy="2863440"/>
            <a:chOff x="5334120" y="3962520"/>
            <a:chExt cx="3275280" cy="2863440"/>
          </a:xfrm>
        </p:grpSpPr>
        <p:grpSp>
          <p:nvGrpSpPr>
            <p:cNvPr id="42" name=""/>
            <p:cNvGrpSpPr/>
            <p:nvPr/>
          </p:nvGrpSpPr>
          <p:grpSpPr>
            <a:xfrm>
              <a:off x="6476760" y="3962520"/>
              <a:ext cx="1675440" cy="1736640"/>
              <a:chOff x="6476760" y="3962520"/>
              <a:chExt cx="1675440" cy="173664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6857280" y="3962520"/>
                <a:ext cx="1294920" cy="1492200"/>
                <a:chOff x="6857280" y="3962520"/>
                <a:chExt cx="1294920" cy="1492200"/>
              </a:xfrm>
            </p:grpSpPr>
            <p:pic>
              <p:nvPicPr>
                <p:cNvPr id="44" name="server_olivier_boyer_0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38160" y="3962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" name="server_olivier_boyer_0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57280" y="4175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6" name="server_olivier_boyer_01" descr=""/>
              <p:cNvPicPr/>
              <p:nvPr/>
            </p:nvPicPr>
            <p:blipFill>
              <a:blip r:embed="rId3"/>
              <a:stretch/>
            </p:blipFill>
            <p:spPr>
              <a:xfrm>
                <a:off x="6476760" y="4419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" name=""/>
            <p:cNvGrpSpPr/>
            <p:nvPr/>
          </p:nvGrpSpPr>
          <p:grpSpPr>
            <a:xfrm>
              <a:off x="5334120" y="4647960"/>
              <a:ext cx="1675440" cy="1736640"/>
              <a:chOff x="5334120" y="4647960"/>
              <a:chExt cx="1675440" cy="173664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5714640" y="4647960"/>
                <a:ext cx="1294920" cy="1492200"/>
                <a:chOff x="5714640" y="4647960"/>
                <a:chExt cx="1294920" cy="1492200"/>
              </a:xfrm>
            </p:grpSpPr>
            <p:pic>
              <p:nvPicPr>
                <p:cNvPr id="49" name="server_olivier_boyer_0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095520" y="46479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" name="server_olivier_boyer_0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71464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1" name="server_olivier_boyer_01" descr=""/>
              <p:cNvPicPr/>
              <p:nvPr/>
            </p:nvPicPr>
            <p:blipFill>
              <a:blip r:embed="rId6"/>
              <a:stretch/>
            </p:blipFill>
            <p:spPr>
              <a:xfrm>
                <a:off x="5334120" y="510516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" name=""/>
            <p:cNvGrpSpPr/>
            <p:nvPr/>
          </p:nvGrpSpPr>
          <p:grpSpPr>
            <a:xfrm>
              <a:off x="6933960" y="4403520"/>
              <a:ext cx="1675440" cy="1736640"/>
              <a:chOff x="6933960" y="4403520"/>
              <a:chExt cx="1675440" cy="173664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7314480" y="4403520"/>
                <a:ext cx="1294920" cy="1492200"/>
                <a:chOff x="7314480" y="4403520"/>
                <a:chExt cx="1294920" cy="1492200"/>
              </a:xfrm>
            </p:grpSpPr>
            <p:pic>
              <p:nvPicPr>
                <p:cNvPr id="54" name="server_olivier_boyer_0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695360" y="4403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" name="server_olivier_boyer_0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314480" y="4616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6" name="server_olivier_boyer_01" descr=""/>
              <p:cNvPicPr/>
              <p:nvPr/>
            </p:nvPicPr>
            <p:blipFill>
              <a:blip r:embed="rId9"/>
              <a:stretch/>
            </p:blipFill>
            <p:spPr>
              <a:xfrm>
                <a:off x="6933960" y="4860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" name=""/>
            <p:cNvGrpSpPr/>
            <p:nvPr/>
          </p:nvGrpSpPr>
          <p:grpSpPr>
            <a:xfrm>
              <a:off x="5790960" y="5089320"/>
              <a:ext cx="1675440" cy="1736640"/>
              <a:chOff x="5790960" y="5089320"/>
              <a:chExt cx="1675440" cy="173664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6171480" y="5089320"/>
                <a:ext cx="1294920" cy="1492200"/>
                <a:chOff x="6171480" y="5089320"/>
                <a:chExt cx="1294920" cy="1492200"/>
              </a:xfrm>
            </p:grpSpPr>
            <p:pic>
              <p:nvPicPr>
                <p:cNvPr id="59" name="server_olivier_boyer_01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552360" y="508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server_olivier_boyer_01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171480" y="53020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1" name="server_olivier_boyer_01" descr=""/>
              <p:cNvPicPr/>
              <p:nvPr/>
            </p:nvPicPr>
            <p:blipFill>
              <a:blip r:embed="rId12"/>
              <a:stretch/>
            </p:blipFill>
            <p:spPr>
              <a:xfrm>
                <a:off x="5790960" y="55465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2" name=""/>
          <p:cNvSpPr/>
          <p:nvPr/>
        </p:nvSpPr>
        <p:spPr>
          <a:xfrm>
            <a:off x="5334120" y="6324480"/>
            <a:ext cx="327636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Cluster A @ HsinC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3962520"/>
            <a:ext cx="3275280" cy="2863440"/>
            <a:chOff x="533520" y="3962520"/>
            <a:chExt cx="3275280" cy="2863440"/>
          </a:xfrm>
        </p:grpSpPr>
        <p:grpSp>
          <p:nvGrpSpPr>
            <p:cNvPr id="64" name=""/>
            <p:cNvGrpSpPr/>
            <p:nvPr/>
          </p:nvGrpSpPr>
          <p:grpSpPr>
            <a:xfrm>
              <a:off x="1676160" y="3962520"/>
              <a:ext cx="1675440" cy="1736640"/>
              <a:chOff x="1676160" y="3962520"/>
              <a:chExt cx="1675440" cy="173664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2056680" y="3962520"/>
                <a:ext cx="1294920" cy="1492200"/>
                <a:chOff x="2056680" y="3962520"/>
                <a:chExt cx="1294920" cy="1492200"/>
              </a:xfrm>
            </p:grpSpPr>
            <p:pic>
              <p:nvPicPr>
                <p:cNvPr id="66" name="server_olivier_boyer_01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2437560" y="3962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server_olivier_boyer_0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056680" y="4175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8" name="server_olivier_boyer_01" descr=""/>
              <p:cNvPicPr/>
              <p:nvPr/>
            </p:nvPicPr>
            <p:blipFill>
              <a:blip r:embed="rId15"/>
              <a:stretch/>
            </p:blipFill>
            <p:spPr>
              <a:xfrm>
                <a:off x="1676160" y="4419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" name=""/>
            <p:cNvGrpSpPr/>
            <p:nvPr/>
          </p:nvGrpSpPr>
          <p:grpSpPr>
            <a:xfrm>
              <a:off x="533520" y="4647960"/>
              <a:ext cx="1675440" cy="1736640"/>
              <a:chOff x="533520" y="4647960"/>
              <a:chExt cx="1675440" cy="1736640"/>
            </a:xfrm>
          </p:grpSpPr>
          <p:grpSp>
            <p:nvGrpSpPr>
              <p:cNvPr id="70" name=""/>
              <p:cNvGrpSpPr/>
              <p:nvPr/>
            </p:nvGrpSpPr>
            <p:grpSpPr>
              <a:xfrm>
                <a:off x="914040" y="4647960"/>
                <a:ext cx="1294920" cy="1492200"/>
                <a:chOff x="914040" y="4647960"/>
                <a:chExt cx="1294920" cy="1492200"/>
              </a:xfrm>
            </p:grpSpPr>
            <p:pic>
              <p:nvPicPr>
                <p:cNvPr id="71" name="server_olivier_boyer_01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1294920" y="46479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server_olivier_boyer_01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91404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3" name="server_olivier_boyer_01" descr=""/>
              <p:cNvPicPr/>
              <p:nvPr/>
            </p:nvPicPr>
            <p:blipFill>
              <a:blip r:embed="rId18"/>
              <a:stretch/>
            </p:blipFill>
            <p:spPr>
              <a:xfrm>
                <a:off x="533520" y="510516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" name=""/>
            <p:cNvGrpSpPr/>
            <p:nvPr/>
          </p:nvGrpSpPr>
          <p:grpSpPr>
            <a:xfrm>
              <a:off x="2133360" y="4403520"/>
              <a:ext cx="1675440" cy="1736640"/>
              <a:chOff x="2133360" y="4403520"/>
              <a:chExt cx="1675440" cy="173664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2513880" y="4403520"/>
                <a:ext cx="1294920" cy="1492200"/>
                <a:chOff x="2513880" y="4403520"/>
                <a:chExt cx="1294920" cy="1492200"/>
              </a:xfrm>
            </p:grpSpPr>
            <p:pic>
              <p:nvPicPr>
                <p:cNvPr id="76" name="server_olivier_boyer_01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2894760" y="4403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server_olivier_boyer_01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2513880" y="46162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78" name="server_olivier_boyer_01" descr=""/>
              <p:cNvPicPr/>
              <p:nvPr/>
            </p:nvPicPr>
            <p:blipFill>
              <a:blip r:embed="rId21"/>
              <a:stretch/>
            </p:blipFill>
            <p:spPr>
              <a:xfrm>
                <a:off x="2133360" y="48607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" name=""/>
            <p:cNvGrpSpPr/>
            <p:nvPr/>
          </p:nvGrpSpPr>
          <p:grpSpPr>
            <a:xfrm>
              <a:off x="990360" y="5089320"/>
              <a:ext cx="1675440" cy="1736640"/>
              <a:chOff x="990360" y="5089320"/>
              <a:chExt cx="1675440" cy="173664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1370880" y="5089320"/>
                <a:ext cx="1294920" cy="1492200"/>
                <a:chOff x="1370880" y="5089320"/>
                <a:chExt cx="1294920" cy="1492200"/>
              </a:xfrm>
            </p:grpSpPr>
            <p:pic>
              <p:nvPicPr>
                <p:cNvPr id="81" name="server_olivier_boyer_01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1751760" y="508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server_olivier_boyer_01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370880" y="53020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83" name="server_olivier_boyer_01" descr=""/>
              <p:cNvPicPr/>
              <p:nvPr/>
            </p:nvPicPr>
            <p:blipFill>
              <a:blip r:embed="rId24"/>
              <a:stretch/>
            </p:blipFill>
            <p:spPr>
              <a:xfrm>
                <a:off x="990360" y="55465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4" name=""/>
          <p:cNvSpPr/>
          <p:nvPr/>
        </p:nvSpPr>
        <p:spPr>
          <a:xfrm>
            <a:off x="533520" y="6324480"/>
            <a:ext cx="3276360" cy="4572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Cluster B @ TaiCh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352680" y="762120"/>
            <a:ext cx="2514600" cy="1949400"/>
            <a:chOff x="3352680" y="762120"/>
            <a:chExt cx="2514600" cy="1949400"/>
          </a:xfrm>
        </p:grpSpPr>
        <p:grpSp>
          <p:nvGrpSpPr>
            <p:cNvPr id="86" name=""/>
            <p:cNvGrpSpPr/>
            <p:nvPr/>
          </p:nvGrpSpPr>
          <p:grpSpPr>
            <a:xfrm>
              <a:off x="3352680" y="762120"/>
              <a:ext cx="1675440" cy="1736640"/>
              <a:chOff x="3352680" y="762120"/>
              <a:chExt cx="1675440" cy="1736640"/>
            </a:xfrm>
          </p:grpSpPr>
          <p:grpSp>
            <p:nvGrpSpPr>
              <p:cNvPr id="87" name=""/>
              <p:cNvGrpSpPr/>
              <p:nvPr/>
            </p:nvGrpSpPr>
            <p:grpSpPr>
              <a:xfrm>
                <a:off x="3733200" y="762120"/>
                <a:ext cx="1294920" cy="1492200"/>
                <a:chOff x="3733200" y="762120"/>
                <a:chExt cx="1294920" cy="1492200"/>
              </a:xfrm>
            </p:grpSpPr>
            <p:pic>
              <p:nvPicPr>
                <p:cNvPr id="88" name="server_olivier_boyer_0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4114080" y="7621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server_olivier_boyer_01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3733200" y="97488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0" name="server_olivier_boyer_01" descr=""/>
              <p:cNvPicPr/>
              <p:nvPr/>
            </p:nvPicPr>
            <p:blipFill>
              <a:blip r:embed="rId27"/>
              <a:stretch/>
            </p:blipFill>
            <p:spPr>
              <a:xfrm>
                <a:off x="3352680" y="1219320"/>
                <a:ext cx="914040" cy="1279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1" name=""/>
            <p:cNvGrpSpPr/>
            <p:nvPr/>
          </p:nvGrpSpPr>
          <p:grpSpPr>
            <a:xfrm>
              <a:off x="4190760" y="974880"/>
              <a:ext cx="1676520" cy="1736640"/>
              <a:chOff x="4190760" y="974880"/>
              <a:chExt cx="1676520" cy="173664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4571640" y="974880"/>
                <a:ext cx="1295640" cy="1492200"/>
                <a:chOff x="4571640" y="974880"/>
                <a:chExt cx="1295640" cy="1492200"/>
              </a:xfrm>
            </p:grpSpPr>
            <p:pic>
              <p:nvPicPr>
                <p:cNvPr id="93" name="server_olivier_boyer_0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4952880" y="97488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" name="server_olivier_boyer_01" descr="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4571640" y="118764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95" name="server_olivier_boyer_01" descr=""/>
              <p:cNvPicPr/>
              <p:nvPr/>
            </p:nvPicPr>
            <p:blipFill>
              <a:blip r:embed="rId30"/>
              <a:stretch/>
            </p:blipFill>
            <p:spPr>
              <a:xfrm>
                <a:off x="4190760" y="1432080"/>
                <a:ext cx="914400" cy="1279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6" name=""/>
          <p:cNvSpPr/>
          <p:nvPr/>
        </p:nvSpPr>
        <p:spPr>
          <a:xfrm>
            <a:off x="3200400" y="76320"/>
            <a:ext cx="2666880" cy="7617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ad Bal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b Service F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33520" y="4114800"/>
            <a:ext cx="8076600" cy="2133360"/>
            <a:chOff x="533520" y="4114800"/>
            <a:chExt cx="8076600" cy="2133360"/>
          </a:xfrm>
        </p:grpSpPr>
        <p:grpSp>
          <p:nvGrpSpPr>
            <p:cNvPr id="98" name=""/>
            <p:cNvGrpSpPr/>
            <p:nvPr/>
          </p:nvGrpSpPr>
          <p:grpSpPr>
            <a:xfrm>
              <a:off x="5334120" y="4114800"/>
              <a:ext cx="3276000" cy="2133360"/>
              <a:chOff x="5334120" y="4114800"/>
              <a:chExt cx="3276000" cy="2133360"/>
            </a:xfrm>
          </p:grpSpPr>
          <p:sp>
            <p:nvSpPr>
              <p:cNvPr id="99" name=""/>
              <p:cNvSpPr/>
              <p:nvPr/>
            </p:nvSpPr>
            <p:spPr>
              <a:xfrm>
                <a:off x="5334120" y="59436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ardw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334120" y="50292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DRBL / Clonez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110360" y="5333760"/>
                <a:ext cx="149976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Kerrigh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334120" y="5333760"/>
                <a:ext cx="177624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GPF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334120" y="56386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inux Kern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34120" y="47242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334120" y="441936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-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334120" y="41148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ene Dominant Index (GDI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533520" y="4114800"/>
              <a:ext cx="3276000" cy="2133360"/>
              <a:chOff x="533520" y="4114800"/>
              <a:chExt cx="3276000" cy="2133360"/>
            </a:xfrm>
          </p:grpSpPr>
          <p:sp>
            <p:nvSpPr>
              <p:cNvPr id="108" name=""/>
              <p:cNvSpPr/>
              <p:nvPr/>
            </p:nvSpPr>
            <p:spPr>
              <a:xfrm>
                <a:off x="533520" y="59436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ardwa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33520" y="50292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DRBL / Clonez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309760" y="5333760"/>
                <a:ext cx="149976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000" spc="-1" strike="noStrike">
                    <a:solidFill>
                      <a:srgbClr val="000000"/>
                    </a:solidFill>
                    <a:latin typeface="Times New Roman"/>
                  </a:rPr>
                  <a:t>Kerrigh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33520" y="5333760"/>
                <a:ext cx="177624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GPF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33520" y="56386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inux Kern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33520" y="472428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33520" y="4419360"/>
                <a:ext cx="3276000" cy="3049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-MP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33520" y="4114800"/>
                <a:ext cx="3276000" cy="304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Gene Dominant Index (GDI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2209680" y="1981080"/>
            <a:ext cx="4647960" cy="3276360"/>
            <a:chOff x="2209680" y="1981080"/>
            <a:chExt cx="4647960" cy="3276360"/>
          </a:xfrm>
        </p:grpSpPr>
        <p:sp>
          <p:nvSpPr>
            <p:cNvPr id="117" name=""/>
            <p:cNvSpPr/>
            <p:nvPr/>
          </p:nvSpPr>
          <p:spPr>
            <a:xfrm>
              <a:off x="2209680" y="478980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Hardw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09680" y="338544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</a:rPr>
                <a:t>DRBL / Clonezill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29680" y="3853080"/>
              <a:ext cx="212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000000"/>
                  </a:solidFill>
                  <a:latin typeface="Times New Roman"/>
                </a:rPr>
                <a:t>Kerrigh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09680" y="3853080"/>
              <a:ext cx="252000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GPF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09680" y="432144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Linux Kern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291708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MP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09680" y="2448720"/>
              <a:ext cx="464796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-MP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09680" y="1981080"/>
              <a:ext cx="4647960" cy="46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ne Dominant Index (GD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5334120" y="3962520"/>
              <a:ext cx="3275280" cy="2863440"/>
              <a:chOff x="5334120" y="3962520"/>
              <a:chExt cx="3275280" cy="286344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6476760" y="3962520"/>
                <a:ext cx="1675440" cy="1736640"/>
                <a:chOff x="6476760" y="3962520"/>
                <a:chExt cx="1675440" cy="1736640"/>
              </a:xfrm>
            </p:grpSpPr>
            <p:grpSp>
              <p:nvGrpSpPr>
                <p:cNvPr id="129" name=""/>
                <p:cNvGrpSpPr/>
                <p:nvPr/>
              </p:nvGrpSpPr>
              <p:grpSpPr>
                <a:xfrm>
                  <a:off x="6857280" y="3962520"/>
                  <a:ext cx="1294920" cy="1492200"/>
                  <a:chOff x="6857280" y="3962520"/>
                  <a:chExt cx="1294920" cy="1492200"/>
                </a:xfrm>
              </p:grpSpPr>
              <p:pic>
                <p:nvPicPr>
                  <p:cNvPr id="130" name="server_olivier_boyer_0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7238160" y="3962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1" name="server_olivier_boyer_0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7280" y="4175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32" name="server_olivier_boyer_0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476760" y="4419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3" name=""/>
              <p:cNvGrpSpPr/>
              <p:nvPr/>
            </p:nvGrpSpPr>
            <p:grpSpPr>
              <a:xfrm>
                <a:off x="5334120" y="4647960"/>
                <a:ext cx="1675440" cy="1736640"/>
                <a:chOff x="5334120" y="4647960"/>
                <a:chExt cx="1675440" cy="1736640"/>
              </a:xfrm>
            </p:grpSpPr>
            <p:grpSp>
              <p:nvGrpSpPr>
                <p:cNvPr id="134" name=""/>
                <p:cNvGrpSpPr/>
                <p:nvPr/>
              </p:nvGrpSpPr>
              <p:grpSpPr>
                <a:xfrm>
                  <a:off x="5714640" y="4647960"/>
                  <a:ext cx="1294920" cy="1492200"/>
                  <a:chOff x="5714640" y="4647960"/>
                  <a:chExt cx="1294920" cy="1492200"/>
                </a:xfrm>
              </p:grpSpPr>
              <p:pic>
                <p:nvPicPr>
                  <p:cNvPr id="135" name="server_olivier_boyer_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520" y="464796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36" name="server_olivier_boyer_0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4640" y="48607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37" name="server_olivier_boyer_01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334120" y="51051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8" name=""/>
              <p:cNvGrpSpPr/>
              <p:nvPr/>
            </p:nvGrpSpPr>
            <p:grpSpPr>
              <a:xfrm>
                <a:off x="6933960" y="4403520"/>
                <a:ext cx="1675440" cy="1736640"/>
                <a:chOff x="6933960" y="4403520"/>
                <a:chExt cx="1675440" cy="1736640"/>
              </a:xfrm>
            </p:grpSpPr>
            <p:grpSp>
              <p:nvGrpSpPr>
                <p:cNvPr id="139" name=""/>
                <p:cNvGrpSpPr/>
                <p:nvPr/>
              </p:nvGrpSpPr>
              <p:grpSpPr>
                <a:xfrm>
                  <a:off x="7314480" y="4403520"/>
                  <a:ext cx="1294920" cy="1492200"/>
                  <a:chOff x="7314480" y="4403520"/>
                  <a:chExt cx="1294920" cy="1492200"/>
                </a:xfrm>
              </p:grpSpPr>
              <p:pic>
                <p:nvPicPr>
                  <p:cNvPr id="140" name="server_olivier_boyer_0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95360" y="4403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1" name="server_olivier_boyer_0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14480" y="4616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42" name="server_olivier_boyer_0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93396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43" name=""/>
              <p:cNvGrpSpPr/>
              <p:nvPr/>
            </p:nvGrpSpPr>
            <p:grpSpPr>
              <a:xfrm>
                <a:off x="5790960" y="5089320"/>
                <a:ext cx="1675440" cy="1736640"/>
                <a:chOff x="5790960" y="5089320"/>
                <a:chExt cx="1675440" cy="1736640"/>
              </a:xfrm>
            </p:grpSpPr>
            <p:grpSp>
              <p:nvGrpSpPr>
                <p:cNvPr id="144" name=""/>
                <p:cNvGrpSpPr/>
                <p:nvPr/>
              </p:nvGrpSpPr>
              <p:grpSpPr>
                <a:xfrm>
                  <a:off x="6171480" y="5089320"/>
                  <a:ext cx="1294920" cy="1492200"/>
                  <a:chOff x="6171480" y="5089320"/>
                  <a:chExt cx="1294920" cy="1492200"/>
                </a:xfrm>
              </p:grpSpPr>
              <p:pic>
                <p:nvPicPr>
                  <p:cNvPr id="145" name="server_olivier_boyer_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52360" y="50893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6" name="server_olivier_boyer_0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71480" y="53020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47" name="server_olivier_boyer_01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790960" y="5546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8" name=""/>
            <p:cNvSpPr/>
            <p:nvPr/>
          </p:nvSpPr>
          <p:spPr>
            <a:xfrm>
              <a:off x="5334120" y="6324480"/>
              <a:ext cx="327636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Cluster A @ HsinChu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533520" y="3962520"/>
              <a:ext cx="3275280" cy="2863440"/>
              <a:chOff x="533520" y="3962520"/>
              <a:chExt cx="3275280" cy="286344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1676160" y="3962520"/>
                <a:ext cx="1675440" cy="1736640"/>
                <a:chOff x="1676160" y="3962520"/>
                <a:chExt cx="1675440" cy="1736640"/>
              </a:xfrm>
            </p:grpSpPr>
            <p:grpSp>
              <p:nvGrpSpPr>
                <p:cNvPr id="151" name=""/>
                <p:cNvGrpSpPr/>
                <p:nvPr/>
              </p:nvGrpSpPr>
              <p:grpSpPr>
                <a:xfrm>
                  <a:off x="2056680" y="3962520"/>
                  <a:ext cx="1294920" cy="1492200"/>
                  <a:chOff x="2056680" y="3962520"/>
                  <a:chExt cx="1294920" cy="1492200"/>
                </a:xfrm>
              </p:grpSpPr>
              <p:pic>
                <p:nvPicPr>
                  <p:cNvPr id="152" name="server_olivier_boyer_01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437560" y="3962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3" name="server_olivier_boyer_0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056680" y="4175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54" name="server_olivier_boyer_01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676160" y="4419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55" name=""/>
              <p:cNvGrpSpPr/>
              <p:nvPr/>
            </p:nvGrpSpPr>
            <p:grpSpPr>
              <a:xfrm>
                <a:off x="533520" y="4647960"/>
                <a:ext cx="1675440" cy="1736640"/>
                <a:chOff x="533520" y="4647960"/>
                <a:chExt cx="1675440" cy="1736640"/>
              </a:xfrm>
            </p:grpSpPr>
            <p:grpSp>
              <p:nvGrpSpPr>
                <p:cNvPr id="156" name=""/>
                <p:cNvGrpSpPr/>
                <p:nvPr/>
              </p:nvGrpSpPr>
              <p:grpSpPr>
                <a:xfrm>
                  <a:off x="914040" y="4647960"/>
                  <a:ext cx="1294920" cy="1492200"/>
                  <a:chOff x="914040" y="4647960"/>
                  <a:chExt cx="1294920" cy="1492200"/>
                </a:xfrm>
              </p:grpSpPr>
              <p:pic>
                <p:nvPicPr>
                  <p:cNvPr id="157" name="server_olivier_boyer_0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94920" y="464796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58" name="server_olivier_boyer_0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14040" y="48607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59" name="server_olivier_boyer_01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533520" y="510516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0" name=""/>
              <p:cNvGrpSpPr/>
              <p:nvPr/>
            </p:nvGrpSpPr>
            <p:grpSpPr>
              <a:xfrm>
                <a:off x="2133360" y="4403520"/>
                <a:ext cx="1675440" cy="1736640"/>
                <a:chOff x="2133360" y="4403520"/>
                <a:chExt cx="1675440" cy="173664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2513880" y="4403520"/>
                  <a:ext cx="1294920" cy="1492200"/>
                  <a:chOff x="2513880" y="4403520"/>
                  <a:chExt cx="1294920" cy="1492200"/>
                </a:xfrm>
              </p:grpSpPr>
              <p:pic>
                <p:nvPicPr>
                  <p:cNvPr id="162" name="server_olivier_boyer_01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894760" y="44035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3" name="server_olivier_boyer_0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513880" y="46162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64" name="server_olivier_boyer_01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2133360" y="48607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5" name=""/>
              <p:cNvGrpSpPr/>
              <p:nvPr/>
            </p:nvGrpSpPr>
            <p:grpSpPr>
              <a:xfrm>
                <a:off x="990360" y="5089320"/>
                <a:ext cx="1675440" cy="1736640"/>
                <a:chOff x="990360" y="5089320"/>
                <a:chExt cx="1675440" cy="173664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1370880" y="5089320"/>
                  <a:ext cx="1294920" cy="1492200"/>
                  <a:chOff x="1370880" y="5089320"/>
                  <a:chExt cx="1294920" cy="1492200"/>
                </a:xfrm>
              </p:grpSpPr>
              <p:pic>
                <p:nvPicPr>
                  <p:cNvPr id="167" name="server_olivier_boyer_0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751760" y="50893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8" name="server_olivier_boyer_01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370880" y="53020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69" name="server_olivier_boyer_0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990360" y="55465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70" name=""/>
            <p:cNvSpPr/>
            <p:nvPr/>
          </p:nvSpPr>
          <p:spPr>
            <a:xfrm>
              <a:off x="533520" y="6324480"/>
              <a:ext cx="327636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000000"/>
                  </a:solidFill>
                  <a:latin typeface="Times New Roman"/>
                </a:rPr>
                <a:t>Cluster B @ TaiChu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3352680" y="762120"/>
              <a:ext cx="2514600" cy="1949400"/>
              <a:chOff x="3352680" y="762120"/>
              <a:chExt cx="2514600" cy="194940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3352680" y="762120"/>
                <a:ext cx="1675440" cy="1736640"/>
                <a:chOff x="3352680" y="762120"/>
                <a:chExt cx="1675440" cy="1736640"/>
              </a:xfrm>
            </p:grpSpPr>
            <p:grpSp>
              <p:nvGrpSpPr>
                <p:cNvPr id="173" name=""/>
                <p:cNvGrpSpPr/>
                <p:nvPr/>
              </p:nvGrpSpPr>
              <p:grpSpPr>
                <a:xfrm>
                  <a:off x="3733200" y="762120"/>
                  <a:ext cx="1294920" cy="1492200"/>
                  <a:chOff x="3733200" y="762120"/>
                  <a:chExt cx="1294920" cy="1492200"/>
                </a:xfrm>
              </p:grpSpPr>
              <p:pic>
                <p:nvPicPr>
                  <p:cNvPr id="174" name="server_olivier_boyer_01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4114080" y="76212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75" name="server_olivier_boyer_01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733200" y="974880"/>
                    <a:ext cx="91404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76" name="server_olivier_boyer_01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3352680" y="1219320"/>
                  <a:ext cx="91404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7" name=""/>
              <p:cNvGrpSpPr/>
              <p:nvPr/>
            </p:nvGrpSpPr>
            <p:grpSpPr>
              <a:xfrm>
                <a:off x="4190760" y="974880"/>
                <a:ext cx="1676520" cy="1736640"/>
                <a:chOff x="4190760" y="974880"/>
                <a:chExt cx="1676520" cy="17366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4571640" y="974880"/>
                  <a:ext cx="1295640" cy="1492200"/>
                  <a:chOff x="4571640" y="974880"/>
                  <a:chExt cx="1295640" cy="1492200"/>
                </a:xfrm>
              </p:grpSpPr>
              <p:pic>
                <p:nvPicPr>
                  <p:cNvPr id="179" name="server_olivier_boyer_01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4952880" y="974880"/>
                    <a:ext cx="91440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80" name="server_olivier_boyer_01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4571640" y="1187640"/>
                    <a:ext cx="91440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81" name="server_olivier_boyer_01" descr="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4190760" y="1432080"/>
                  <a:ext cx="914400" cy="127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2" name=""/>
            <p:cNvSpPr/>
            <p:nvPr/>
          </p:nvSpPr>
          <p:spPr>
            <a:xfrm>
              <a:off x="3200400" y="76320"/>
              <a:ext cx="2666880" cy="7617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oad Balanc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eb Service Far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3520" y="2438280"/>
              <a:ext cx="8076960" cy="1676520"/>
            </a:xfrm>
            <a:prstGeom prst="rect">
              <a:avLst/>
            </a:prstGeom>
            <a:solidFill>
              <a:srgbClr val="ff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0" bIns="360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Hadoop Distributed File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480" y="2971800"/>
              <a:ext cx="7848720" cy="3049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MapReduce AP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3520" y="2057400"/>
              <a:ext cx="8076960" cy="380880"/>
            </a:xfrm>
            <a:prstGeom prst="rect">
              <a:avLst/>
            </a:prstGeom>
            <a:solidFill>
              <a:srgbClr val="ff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Object Database - Hyper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3520" y="1676520"/>
              <a:ext cx="8076960" cy="38088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rvice-Oriented Architecture (SO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9480" y="3352680"/>
              <a:ext cx="83844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76520" y="3352680"/>
              <a:ext cx="9144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1952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8640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553080" y="3352680"/>
              <a:ext cx="9144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20120" y="3352680"/>
              <a:ext cx="83808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76520" y="2514600"/>
              <a:ext cx="91440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53080" y="2514600"/>
              <a:ext cx="914400" cy="380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219320" y="28954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2437920" y="2895480"/>
              <a:ext cx="7621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88" idx="0"/>
              <a:endCxn id="193" idx="2"/>
            </p:cNvCxnSpPr>
            <p:nvPr/>
          </p:nvCxnSpPr>
          <p:spPr>
            <a:xfrm flipV="1">
              <a:off x="2133360" y="289512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>
              <a:stCxn id="191" idx="0"/>
              <a:endCxn id="194" idx="2"/>
            </p:cNvCxnSpPr>
            <p:nvPr/>
          </p:nvCxnSpPr>
          <p:spPr>
            <a:xfrm flipV="1">
              <a:off x="7009920" y="289512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9" name=""/>
            <p:cNvSpPr/>
            <p:nvPr/>
          </p:nvSpPr>
          <p:spPr>
            <a:xfrm flipV="1">
              <a:off x="6019920" y="28954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7162920" y="289548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3520" y="1295280"/>
              <a:ext cx="8076960" cy="38124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</a:rPr>
                <a:t>Web Application Framework - Ruby on Rails (Ro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2133720" y="2285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010280" y="22856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533520" y="4114800"/>
              <a:ext cx="8076600" cy="2133360"/>
              <a:chOff x="533520" y="4114800"/>
              <a:chExt cx="8076600" cy="2133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5334120" y="4114800"/>
                <a:ext cx="3276000" cy="2133360"/>
                <a:chOff x="5334120" y="4114800"/>
                <a:chExt cx="3276000" cy="21333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5334120" y="59436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ardwa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334120" y="50292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DRBL / Clonezill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110360" y="5333760"/>
                  <a:ext cx="149976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Kerrigh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334120" y="5333760"/>
                  <a:ext cx="177624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PF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334120" y="56386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Linux Kern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334120" y="47242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334120" y="441936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-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334120" y="41148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Gene Dominant Index (GDI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533520" y="4114800"/>
                <a:ext cx="3276000" cy="2133360"/>
                <a:chOff x="533520" y="4114800"/>
                <a:chExt cx="3276000" cy="21333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533520" y="59436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Hardwa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33520" y="50292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DRBL / Clonezill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309760" y="5333760"/>
                  <a:ext cx="149976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TW" sz="2000" spc="-1" strike="noStrike">
                      <a:solidFill>
                        <a:srgbClr val="000000"/>
                      </a:solidFill>
                      <a:latin typeface="Times New Roman"/>
                    </a:rPr>
                    <a:t>Kerrighe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33520" y="5333760"/>
                  <a:ext cx="177624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GPF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33520" y="56386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Linux Kerne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33520" y="472428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33520" y="4419360"/>
                  <a:ext cx="3276000" cy="3049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-MP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33520" y="4114800"/>
                  <a:ext cx="3276000" cy="30456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Gene Dominant Index (GDI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1:27:16Z</dcterms:created>
  <dc:creator>Human</dc:creator>
  <dc:description/>
  <dc:language>en-US</dc:language>
  <cp:lastModifiedBy>Human</cp:lastModifiedBy>
  <dcterms:modified xsi:type="dcterms:W3CDTF">2008-03-31T07:10:31Z</dcterms:modified>
  <cp:revision>12</cp:revision>
  <dc:subject/>
  <dc:title>PowerPoint 簡報</dc:title>
</cp:coreProperties>
</file>