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3141-3C8D-4DDA-B37D-4B9F2F5B9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BD9F-8017-4877-A771-88B50003F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3954-E2C6-4C90-BE7C-B9A641EF9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3D7F-3E57-439E-AE3C-A9EE11CA0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3FEC-E4C4-4A21-B1CB-9011FE824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49AC-3C94-4EDC-A0AA-7AB235540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8C96-3DA2-461C-80DA-C26DE1A5E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90A5-2D46-4D0E-9EC1-000F6AFA7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DDB6-D1D2-4C1D-AF9F-74CCB420D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666A-D020-4A4D-BC01-E2F4AE18B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AD19-ABC7-49A1-8E8F-9321100B4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E801-7608-4370-9434-C72805352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4A7F7-F0EC-4E11-8FCC-34D7E2C86EC3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image" Target="../media/image1.png"/><Relationship Id="rId28" Type="http://schemas.openxmlformats.org/officeDocument/2006/relationships/image" Target="../media/image1.png"/><Relationship Id="rId29" Type="http://schemas.openxmlformats.org/officeDocument/2006/relationships/image" Target="../media/image1.png"/><Relationship Id="rId30" Type="http://schemas.openxmlformats.org/officeDocument/2006/relationships/image" Target="../media/image1.png"/><Relationship Id="rId3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image" Target="../media/image1.png"/><Relationship Id="rId28" Type="http://schemas.openxmlformats.org/officeDocument/2006/relationships/image" Target="../media/image1.png"/><Relationship Id="rId29" Type="http://schemas.openxmlformats.org/officeDocument/2006/relationships/image" Target="../media/image1.png"/><Relationship Id="rId30" Type="http://schemas.openxmlformats.org/officeDocument/2006/relationships/image" Target="../media/image1.png"/><Relationship Id="rId3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5334120" y="3962520"/>
            <a:ext cx="3275280" cy="2863440"/>
            <a:chOff x="5334120" y="3962520"/>
            <a:chExt cx="3275280" cy="2863440"/>
          </a:xfrm>
        </p:grpSpPr>
        <p:grpSp>
          <p:nvGrpSpPr>
            <p:cNvPr id="42" name=""/>
            <p:cNvGrpSpPr/>
            <p:nvPr/>
          </p:nvGrpSpPr>
          <p:grpSpPr>
            <a:xfrm>
              <a:off x="6476760" y="3962520"/>
              <a:ext cx="1675440" cy="1736640"/>
              <a:chOff x="6476760" y="3962520"/>
              <a:chExt cx="1675440" cy="1736640"/>
            </a:xfrm>
          </p:grpSpPr>
          <p:grpSp>
            <p:nvGrpSpPr>
              <p:cNvPr id="43" name=""/>
              <p:cNvGrpSpPr/>
              <p:nvPr/>
            </p:nvGrpSpPr>
            <p:grpSpPr>
              <a:xfrm>
                <a:off x="6857280" y="3962520"/>
                <a:ext cx="1294920" cy="1492200"/>
                <a:chOff x="6857280" y="3962520"/>
                <a:chExt cx="1294920" cy="1492200"/>
              </a:xfrm>
            </p:grpSpPr>
            <p:pic>
              <p:nvPicPr>
                <p:cNvPr id="44" name="server_olivier_boyer_01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238160" y="39625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" name="server_olivier_boyer_0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57280" y="417528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46" name="server_olivier_boyer_01" descr=""/>
              <p:cNvPicPr/>
              <p:nvPr/>
            </p:nvPicPr>
            <p:blipFill>
              <a:blip r:embed="rId3"/>
              <a:stretch/>
            </p:blipFill>
            <p:spPr>
              <a:xfrm>
                <a:off x="6476760" y="441972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7" name=""/>
            <p:cNvGrpSpPr/>
            <p:nvPr/>
          </p:nvGrpSpPr>
          <p:grpSpPr>
            <a:xfrm>
              <a:off x="5334120" y="4647960"/>
              <a:ext cx="1675440" cy="1736640"/>
              <a:chOff x="5334120" y="4647960"/>
              <a:chExt cx="1675440" cy="1736640"/>
            </a:xfrm>
          </p:grpSpPr>
          <p:grpSp>
            <p:nvGrpSpPr>
              <p:cNvPr id="48" name=""/>
              <p:cNvGrpSpPr/>
              <p:nvPr/>
            </p:nvGrpSpPr>
            <p:grpSpPr>
              <a:xfrm>
                <a:off x="5714640" y="4647960"/>
                <a:ext cx="1294920" cy="1492200"/>
                <a:chOff x="5714640" y="4647960"/>
                <a:chExt cx="1294920" cy="1492200"/>
              </a:xfrm>
            </p:grpSpPr>
            <p:pic>
              <p:nvPicPr>
                <p:cNvPr id="49" name="server_olivier_boyer_0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095520" y="464796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" name="server_olivier_boyer_0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5714640" y="48607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51" name="server_olivier_boyer_01" descr=""/>
              <p:cNvPicPr/>
              <p:nvPr/>
            </p:nvPicPr>
            <p:blipFill>
              <a:blip r:embed="rId6"/>
              <a:stretch/>
            </p:blipFill>
            <p:spPr>
              <a:xfrm>
                <a:off x="5334120" y="510516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2" name=""/>
            <p:cNvGrpSpPr/>
            <p:nvPr/>
          </p:nvGrpSpPr>
          <p:grpSpPr>
            <a:xfrm>
              <a:off x="6933960" y="4403520"/>
              <a:ext cx="1675440" cy="1736640"/>
              <a:chOff x="6933960" y="4403520"/>
              <a:chExt cx="1675440" cy="1736640"/>
            </a:xfrm>
          </p:grpSpPr>
          <p:grpSp>
            <p:nvGrpSpPr>
              <p:cNvPr id="53" name=""/>
              <p:cNvGrpSpPr/>
              <p:nvPr/>
            </p:nvGrpSpPr>
            <p:grpSpPr>
              <a:xfrm>
                <a:off x="7314480" y="4403520"/>
                <a:ext cx="1294920" cy="1492200"/>
                <a:chOff x="7314480" y="4403520"/>
                <a:chExt cx="1294920" cy="1492200"/>
              </a:xfrm>
            </p:grpSpPr>
            <p:pic>
              <p:nvPicPr>
                <p:cNvPr id="54" name="server_olivier_boyer_0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695360" y="44035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" name="server_olivier_boyer_01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314480" y="461628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56" name="server_olivier_boyer_01" descr=""/>
              <p:cNvPicPr/>
              <p:nvPr/>
            </p:nvPicPr>
            <p:blipFill>
              <a:blip r:embed="rId9"/>
              <a:stretch/>
            </p:blipFill>
            <p:spPr>
              <a:xfrm>
                <a:off x="6933960" y="486072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7" name=""/>
            <p:cNvGrpSpPr/>
            <p:nvPr/>
          </p:nvGrpSpPr>
          <p:grpSpPr>
            <a:xfrm>
              <a:off x="5790960" y="5089320"/>
              <a:ext cx="1675440" cy="1736640"/>
              <a:chOff x="5790960" y="5089320"/>
              <a:chExt cx="1675440" cy="1736640"/>
            </a:xfrm>
          </p:grpSpPr>
          <p:grpSp>
            <p:nvGrpSpPr>
              <p:cNvPr id="58" name=""/>
              <p:cNvGrpSpPr/>
              <p:nvPr/>
            </p:nvGrpSpPr>
            <p:grpSpPr>
              <a:xfrm>
                <a:off x="6171480" y="5089320"/>
                <a:ext cx="1294920" cy="1492200"/>
                <a:chOff x="6171480" y="5089320"/>
                <a:chExt cx="1294920" cy="1492200"/>
              </a:xfrm>
            </p:grpSpPr>
            <p:pic>
              <p:nvPicPr>
                <p:cNvPr id="59" name="server_olivier_boyer_01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552360" y="50893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" name="server_olivier_boyer_01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171480" y="530208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61" name="server_olivier_boyer_01" descr=""/>
              <p:cNvPicPr/>
              <p:nvPr/>
            </p:nvPicPr>
            <p:blipFill>
              <a:blip r:embed="rId12"/>
              <a:stretch/>
            </p:blipFill>
            <p:spPr>
              <a:xfrm>
                <a:off x="5790960" y="554652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2" name=""/>
          <p:cNvSpPr/>
          <p:nvPr/>
        </p:nvSpPr>
        <p:spPr>
          <a:xfrm>
            <a:off x="5334120" y="6324480"/>
            <a:ext cx="3276360" cy="4572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Cluster A @ HsinCh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533520" y="3962520"/>
            <a:ext cx="3275280" cy="2863440"/>
            <a:chOff x="533520" y="3962520"/>
            <a:chExt cx="3275280" cy="2863440"/>
          </a:xfrm>
        </p:grpSpPr>
        <p:grpSp>
          <p:nvGrpSpPr>
            <p:cNvPr id="64" name=""/>
            <p:cNvGrpSpPr/>
            <p:nvPr/>
          </p:nvGrpSpPr>
          <p:grpSpPr>
            <a:xfrm>
              <a:off x="1676160" y="3962520"/>
              <a:ext cx="1675440" cy="1736640"/>
              <a:chOff x="1676160" y="3962520"/>
              <a:chExt cx="1675440" cy="1736640"/>
            </a:xfrm>
          </p:grpSpPr>
          <p:grpSp>
            <p:nvGrpSpPr>
              <p:cNvPr id="65" name=""/>
              <p:cNvGrpSpPr/>
              <p:nvPr/>
            </p:nvGrpSpPr>
            <p:grpSpPr>
              <a:xfrm>
                <a:off x="2056680" y="3962520"/>
                <a:ext cx="1294920" cy="1492200"/>
                <a:chOff x="2056680" y="3962520"/>
                <a:chExt cx="1294920" cy="1492200"/>
              </a:xfrm>
            </p:grpSpPr>
            <p:pic>
              <p:nvPicPr>
                <p:cNvPr id="66" name="server_olivier_boyer_01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2437560" y="39625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" name="server_olivier_boyer_0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2056680" y="417528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68" name="server_olivier_boyer_01" descr=""/>
              <p:cNvPicPr/>
              <p:nvPr/>
            </p:nvPicPr>
            <p:blipFill>
              <a:blip r:embed="rId15"/>
              <a:stretch/>
            </p:blipFill>
            <p:spPr>
              <a:xfrm>
                <a:off x="1676160" y="441972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9" name=""/>
            <p:cNvGrpSpPr/>
            <p:nvPr/>
          </p:nvGrpSpPr>
          <p:grpSpPr>
            <a:xfrm>
              <a:off x="533520" y="4647960"/>
              <a:ext cx="1675440" cy="1736640"/>
              <a:chOff x="533520" y="4647960"/>
              <a:chExt cx="1675440" cy="1736640"/>
            </a:xfrm>
          </p:grpSpPr>
          <p:grpSp>
            <p:nvGrpSpPr>
              <p:cNvPr id="70" name=""/>
              <p:cNvGrpSpPr/>
              <p:nvPr/>
            </p:nvGrpSpPr>
            <p:grpSpPr>
              <a:xfrm>
                <a:off x="914040" y="4647960"/>
                <a:ext cx="1294920" cy="1492200"/>
                <a:chOff x="914040" y="4647960"/>
                <a:chExt cx="1294920" cy="1492200"/>
              </a:xfrm>
            </p:grpSpPr>
            <p:pic>
              <p:nvPicPr>
                <p:cNvPr id="71" name="server_olivier_boyer_01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1294920" y="464796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" name="server_olivier_boyer_01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914040" y="48607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73" name="server_olivier_boyer_01" descr=""/>
              <p:cNvPicPr/>
              <p:nvPr/>
            </p:nvPicPr>
            <p:blipFill>
              <a:blip r:embed="rId18"/>
              <a:stretch/>
            </p:blipFill>
            <p:spPr>
              <a:xfrm>
                <a:off x="533520" y="510516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4" name=""/>
            <p:cNvGrpSpPr/>
            <p:nvPr/>
          </p:nvGrpSpPr>
          <p:grpSpPr>
            <a:xfrm>
              <a:off x="2133360" y="4403520"/>
              <a:ext cx="1675440" cy="1736640"/>
              <a:chOff x="2133360" y="4403520"/>
              <a:chExt cx="1675440" cy="1736640"/>
            </a:xfrm>
          </p:grpSpPr>
          <p:grpSp>
            <p:nvGrpSpPr>
              <p:cNvPr id="75" name=""/>
              <p:cNvGrpSpPr/>
              <p:nvPr/>
            </p:nvGrpSpPr>
            <p:grpSpPr>
              <a:xfrm>
                <a:off x="2513880" y="4403520"/>
                <a:ext cx="1294920" cy="1492200"/>
                <a:chOff x="2513880" y="4403520"/>
                <a:chExt cx="1294920" cy="1492200"/>
              </a:xfrm>
            </p:grpSpPr>
            <p:pic>
              <p:nvPicPr>
                <p:cNvPr id="76" name="server_olivier_boyer_01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2894760" y="44035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" name="server_olivier_boyer_01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2513880" y="461628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78" name="server_olivier_boyer_01" descr=""/>
              <p:cNvPicPr/>
              <p:nvPr/>
            </p:nvPicPr>
            <p:blipFill>
              <a:blip r:embed="rId21"/>
              <a:stretch/>
            </p:blipFill>
            <p:spPr>
              <a:xfrm>
                <a:off x="2133360" y="486072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9" name=""/>
            <p:cNvGrpSpPr/>
            <p:nvPr/>
          </p:nvGrpSpPr>
          <p:grpSpPr>
            <a:xfrm>
              <a:off x="990360" y="5089320"/>
              <a:ext cx="1675440" cy="1736640"/>
              <a:chOff x="990360" y="5089320"/>
              <a:chExt cx="1675440" cy="1736640"/>
            </a:xfrm>
          </p:grpSpPr>
          <p:grpSp>
            <p:nvGrpSpPr>
              <p:cNvPr id="80" name=""/>
              <p:cNvGrpSpPr/>
              <p:nvPr/>
            </p:nvGrpSpPr>
            <p:grpSpPr>
              <a:xfrm>
                <a:off x="1370880" y="5089320"/>
                <a:ext cx="1294920" cy="1492200"/>
                <a:chOff x="1370880" y="5089320"/>
                <a:chExt cx="1294920" cy="1492200"/>
              </a:xfrm>
            </p:grpSpPr>
            <p:pic>
              <p:nvPicPr>
                <p:cNvPr id="81" name="server_olivier_boyer_01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1751760" y="50893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" name="server_olivier_boyer_01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1370880" y="530208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83" name="server_olivier_boyer_01" descr=""/>
              <p:cNvPicPr/>
              <p:nvPr/>
            </p:nvPicPr>
            <p:blipFill>
              <a:blip r:embed="rId24"/>
              <a:stretch/>
            </p:blipFill>
            <p:spPr>
              <a:xfrm>
                <a:off x="990360" y="554652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84" name=""/>
          <p:cNvSpPr/>
          <p:nvPr/>
        </p:nvSpPr>
        <p:spPr>
          <a:xfrm>
            <a:off x="533520" y="6324480"/>
            <a:ext cx="3276360" cy="4572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Cluster B @ TaiCh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3352680" y="762120"/>
            <a:ext cx="2514600" cy="1949400"/>
            <a:chOff x="3352680" y="762120"/>
            <a:chExt cx="2514600" cy="1949400"/>
          </a:xfrm>
        </p:grpSpPr>
        <p:grpSp>
          <p:nvGrpSpPr>
            <p:cNvPr id="86" name=""/>
            <p:cNvGrpSpPr/>
            <p:nvPr/>
          </p:nvGrpSpPr>
          <p:grpSpPr>
            <a:xfrm>
              <a:off x="3352680" y="762120"/>
              <a:ext cx="1675440" cy="1736640"/>
              <a:chOff x="3352680" y="762120"/>
              <a:chExt cx="1675440" cy="1736640"/>
            </a:xfrm>
          </p:grpSpPr>
          <p:grpSp>
            <p:nvGrpSpPr>
              <p:cNvPr id="87" name=""/>
              <p:cNvGrpSpPr/>
              <p:nvPr/>
            </p:nvGrpSpPr>
            <p:grpSpPr>
              <a:xfrm>
                <a:off x="3733200" y="762120"/>
                <a:ext cx="1294920" cy="1492200"/>
                <a:chOff x="3733200" y="762120"/>
                <a:chExt cx="1294920" cy="1492200"/>
              </a:xfrm>
            </p:grpSpPr>
            <p:pic>
              <p:nvPicPr>
                <p:cNvPr id="88" name="server_olivier_boyer_01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4114080" y="7621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" name="server_olivier_boyer_01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3733200" y="97488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90" name="server_olivier_boyer_01" descr=""/>
              <p:cNvPicPr/>
              <p:nvPr/>
            </p:nvPicPr>
            <p:blipFill>
              <a:blip r:embed="rId27"/>
              <a:stretch/>
            </p:blipFill>
            <p:spPr>
              <a:xfrm>
                <a:off x="3352680" y="121932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1" name=""/>
            <p:cNvGrpSpPr/>
            <p:nvPr/>
          </p:nvGrpSpPr>
          <p:grpSpPr>
            <a:xfrm>
              <a:off x="4190760" y="974880"/>
              <a:ext cx="1676520" cy="1736640"/>
              <a:chOff x="4190760" y="974880"/>
              <a:chExt cx="1676520" cy="1736640"/>
            </a:xfrm>
          </p:grpSpPr>
          <p:grpSp>
            <p:nvGrpSpPr>
              <p:cNvPr id="92" name=""/>
              <p:cNvGrpSpPr/>
              <p:nvPr/>
            </p:nvGrpSpPr>
            <p:grpSpPr>
              <a:xfrm>
                <a:off x="4571640" y="974880"/>
                <a:ext cx="1295640" cy="1492200"/>
                <a:chOff x="4571640" y="974880"/>
                <a:chExt cx="1295640" cy="1492200"/>
              </a:xfrm>
            </p:grpSpPr>
            <p:pic>
              <p:nvPicPr>
                <p:cNvPr id="93" name="server_olivier_boyer_01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4952880" y="974880"/>
                  <a:ext cx="91440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4" name="server_olivier_boyer_01" descr=""/>
                <p:cNvPicPr/>
                <p:nvPr/>
              </p:nvPicPr>
              <p:blipFill>
                <a:blip r:embed="rId29"/>
                <a:stretch/>
              </p:blipFill>
              <p:spPr>
                <a:xfrm>
                  <a:off x="4571640" y="1187640"/>
                  <a:ext cx="91440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95" name="server_olivier_boyer_01" descr=""/>
              <p:cNvPicPr/>
              <p:nvPr/>
            </p:nvPicPr>
            <p:blipFill>
              <a:blip r:embed="rId30"/>
              <a:stretch/>
            </p:blipFill>
            <p:spPr>
              <a:xfrm>
                <a:off x="4190760" y="1432080"/>
                <a:ext cx="914400" cy="1279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96" name=""/>
          <p:cNvSpPr/>
          <p:nvPr/>
        </p:nvSpPr>
        <p:spPr>
          <a:xfrm>
            <a:off x="3200400" y="76320"/>
            <a:ext cx="2666880" cy="7617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ad Bala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b Service F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533520" y="4114800"/>
            <a:ext cx="8076600" cy="2133360"/>
            <a:chOff x="533520" y="4114800"/>
            <a:chExt cx="8076600" cy="2133360"/>
          </a:xfrm>
        </p:grpSpPr>
        <p:grpSp>
          <p:nvGrpSpPr>
            <p:cNvPr id="98" name=""/>
            <p:cNvGrpSpPr/>
            <p:nvPr/>
          </p:nvGrpSpPr>
          <p:grpSpPr>
            <a:xfrm>
              <a:off x="5334120" y="4114800"/>
              <a:ext cx="3276000" cy="2133360"/>
              <a:chOff x="5334120" y="4114800"/>
              <a:chExt cx="3276000" cy="2133360"/>
            </a:xfrm>
          </p:grpSpPr>
          <p:sp>
            <p:nvSpPr>
              <p:cNvPr id="99" name=""/>
              <p:cNvSpPr/>
              <p:nvPr/>
            </p:nvSpPr>
            <p:spPr>
              <a:xfrm>
                <a:off x="5334120" y="5943600"/>
                <a:ext cx="3276000" cy="304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Hardwar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334120" y="5029200"/>
                <a:ext cx="3276000" cy="304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000" spc="-1" strike="noStrike">
                    <a:solidFill>
                      <a:srgbClr val="000000"/>
                    </a:solidFill>
                    <a:latin typeface="Times New Roman"/>
                  </a:rPr>
                  <a:t>DRBL / Clonezill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110360" y="5333760"/>
                <a:ext cx="149976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000" spc="-1" strike="noStrike">
                    <a:solidFill>
                      <a:srgbClr val="000000"/>
                    </a:solidFill>
                    <a:latin typeface="Times New Roman"/>
                  </a:rPr>
                  <a:t>Kerrighe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334120" y="5333760"/>
                <a:ext cx="177624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GPF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334120" y="5638680"/>
                <a:ext cx="327600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Linux Kerne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334120" y="4724280"/>
                <a:ext cx="327600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MP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334120" y="4419360"/>
                <a:ext cx="327600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R-MP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334120" y="4114800"/>
                <a:ext cx="3276000" cy="304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Gene Dominant Index (GDI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533520" y="4114800"/>
              <a:ext cx="3276000" cy="2133360"/>
              <a:chOff x="533520" y="4114800"/>
              <a:chExt cx="3276000" cy="2133360"/>
            </a:xfrm>
          </p:grpSpPr>
          <p:sp>
            <p:nvSpPr>
              <p:cNvPr id="108" name=""/>
              <p:cNvSpPr/>
              <p:nvPr/>
            </p:nvSpPr>
            <p:spPr>
              <a:xfrm>
                <a:off x="533520" y="5943600"/>
                <a:ext cx="3276000" cy="304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Hardwar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33520" y="5029200"/>
                <a:ext cx="3276000" cy="304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000" spc="-1" strike="noStrike">
                    <a:solidFill>
                      <a:srgbClr val="000000"/>
                    </a:solidFill>
                    <a:latin typeface="Times New Roman"/>
                  </a:rPr>
                  <a:t>DRBL / Clonezill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309760" y="5333760"/>
                <a:ext cx="149976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000" spc="-1" strike="noStrike">
                    <a:solidFill>
                      <a:srgbClr val="000000"/>
                    </a:solidFill>
                    <a:latin typeface="Times New Roman"/>
                  </a:rPr>
                  <a:t>Kerrighe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33520" y="5333760"/>
                <a:ext cx="177624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GPF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33520" y="5638680"/>
                <a:ext cx="327600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Linux Kerne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33520" y="4724280"/>
                <a:ext cx="327600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MP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33520" y="4419360"/>
                <a:ext cx="327600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R-MP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33520" y="4114800"/>
                <a:ext cx="3276000" cy="304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Gene Dominant Index (GDI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2209680" y="1981080"/>
            <a:ext cx="4647960" cy="3276360"/>
            <a:chOff x="2209680" y="1981080"/>
            <a:chExt cx="4647960" cy="3276360"/>
          </a:xfrm>
        </p:grpSpPr>
        <p:sp>
          <p:nvSpPr>
            <p:cNvPr id="117" name=""/>
            <p:cNvSpPr/>
            <p:nvPr/>
          </p:nvSpPr>
          <p:spPr>
            <a:xfrm>
              <a:off x="2209680" y="4789800"/>
              <a:ext cx="4647960" cy="46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Hardwa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09680" y="3385440"/>
              <a:ext cx="4647960" cy="46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000000"/>
                  </a:solidFill>
                  <a:latin typeface="Times New Roman"/>
                </a:rPr>
                <a:t>DRBL / Clonezill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729680" y="3853080"/>
              <a:ext cx="2127960" cy="46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000000"/>
                  </a:solidFill>
                  <a:latin typeface="Times New Roman"/>
                </a:rPr>
                <a:t>Kerrighe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209680" y="3853080"/>
              <a:ext cx="2520000" cy="46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GPF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209680" y="4321440"/>
              <a:ext cx="4647960" cy="46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Linux Kerne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09680" y="2917080"/>
              <a:ext cx="4647960" cy="46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MP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209680" y="2448720"/>
              <a:ext cx="4647960" cy="46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R-MP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09680" y="1981080"/>
              <a:ext cx="4647960" cy="46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Gene Dominant Index (GDI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5334120" y="3962520"/>
              <a:ext cx="3275280" cy="2863440"/>
              <a:chOff x="5334120" y="3962520"/>
              <a:chExt cx="3275280" cy="2863440"/>
            </a:xfrm>
          </p:grpSpPr>
          <p:grpSp>
            <p:nvGrpSpPr>
              <p:cNvPr id="128" name=""/>
              <p:cNvGrpSpPr/>
              <p:nvPr/>
            </p:nvGrpSpPr>
            <p:grpSpPr>
              <a:xfrm>
                <a:off x="6476760" y="3962520"/>
                <a:ext cx="1675440" cy="1736640"/>
                <a:chOff x="6476760" y="3962520"/>
                <a:chExt cx="1675440" cy="1736640"/>
              </a:xfrm>
            </p:grpSpPr>
            <p:grpSp>
              <p:nvGrpSpPr>
                <p:cNvPr id="129" name=""/>
                <p:cNvGrpSpPr/>
                <p:nvPr/>
              </p:nvGrpSpPr>
              <p:grpSpPr>
                <a:xfrm>
                  <a:off x="6857280" y="3962520"/>
                  <a:ext cx="1294920" cy="1492200"/>
                  <a:chOff x="6857280" y="3962520"/>
                  <a:chExt cx="1294920" cy="1492200"/>
                </a:xfrm>
              </p:grpSpPr>
              <p:pic>
                <p:nvPicPr>
                  <p:cNvPr id="130" name="server_olivier_boyer_01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7238160" y="39625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31" name="server_olivier_boyer_0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7280" y="417528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32" name="server_olivier_boyer_0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476760" y="44197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33" name=""/>
              <p:cNvGrpSpPr/>
              <p:nvPr/>
            </p:nvGrpSpPr>
            <p:grpSpPr>
              <a:xfrm>
                <a:off x="5334120" y="4647960"/>
                <a:ext cx="1675440" cy="1736640"/>
                <a:chOff x="5334120" y="4647960"/>
                <a:chExt cx="1675440" cy="1736640"/>
              </a:xfrm>
            </p:grpSpPr>
            <p:grpSp>
              <p:nvGrpSpPr>
                <p:cNvPr id="134" name=""/>
                <p:cNvGrpSpPr/>
                <p:nvPr/>
              </p:nvGrpSpPr>
              <p:grpSpPr>
                <a:xfrm>
                  <a:off x="5714640" y="4647960"/>
                  <a:ext cx="1294920" cy="1492200"/>
                  <a:chOff x="5714640" y="4647960"/>
                  <a:chExt cx="1294920" cy="1492200"/>
                </a:xfrm>
              </p:grpSpPr>
              <p:pic>
                <p:nvPicPr>
                  <p:cNvPr id="135" name="server_olivier_boyer_0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5520" y="464796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36" name="server_olivier_boyer_0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4640" y="48607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37" name="server_olivier_boyer_0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5334120" y="510516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38" name=""/>
              <p:cNvGrpSpPr/>
              <p:nvPr/>
            </p:nvGrpSpPr>
            <p:grpSpPr>
              <a:xfrm>
                <a:off x="6933960" y="4403520"/>
                <a:ext cx="1675440" cy="1736640"/>
                <a:chOff x="6933960" y="4403520"/>
                <a:chExt cx="1675440" cy="1736640"/>
              </a:xfrm>
            </p:grpSpPr>
            <p:grpSp>
              <p:nvGrpSpPr>
                <p:cNvPr id="139" name=""/>
                <p:cNvGrpSpPr/>
                <p:nvPr/>
              </p:nvGrpSpPr>
              <p:grpSpPr>
                <a:xfrm>
                  <a:off x="7314480" y="4403520"/>
                  <a:ext cx="1294920" cy="1492200"/>
                  <a:chOff x="7314480" y="4403520"/>
                  <a:chExt cx="1294920" cy="1492200"/>
                </a:xfrm>
              </p:grpSpPr>
              <p:pic>
                <p:nvPicPr>
                  <p:cNvPr id="140" name="server_olivier_boyer_0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695360" y="44035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41" name="server_olivier_boyer_0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314480" y="461628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42" name="server_olivier_boyer_01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933960" y="48607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43" name=""/>
              <p:cNvGrpSpPr/>
              <p:nvPr/>
            </p:nvGrpSpPr>
            <p:grpSpPr>
              <a:xfrm>
                <a:off x="5790960" y="5089320"/>
                <a:ext cx="1675440" cy="1736640"/>
                <a:chOff x="5790960" y="5089320"/>
                <a:chExt cx="1675440" cy="1736640"/>
              </a:xfrm>
            </p:grpSpPr>
            <p:grpSp>
              <p:nvGrpSpPr>
                <p:cNvPr id="144" name=""/>
                <p:cNvGrpSpPr/>
                <p:nvPr/>
              </p:nvGrpSpPr>
              <p:grpSpPr>
                <a:xfrm>
                  <a:off x="6171480" y="5089320"/>
                  <a:ext cx="1294920" cy="1492200"/>
                  <a:chOff x="6171480" y="5089320"/>
                  <a:chExt cx="1294920" cy="1492200"/>
                </a:xfrm>
              </p:grpSpPr>
              <p:pic>
                <p:nvPicPr>
                  <p:cNvPr id="145" name="server_olivier_boyer_0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552360" y="50893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46" name="server_olivier_boyer_01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171480" y="530208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47" name="server_olivier_boyer_01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5790960" y="55465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8" name=""/>
            <p:cNvSpPr/>
            <p:nvPr/>
          </p:nvSpPr>
          <p:spPr>
            <a:xfrm>
              <a:off x="5334120" y="6324480"/>
              <a:ext cx="3276360" cy="457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</a:rPr>
                <a:t>Cluster A @ HsinCh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533520" y="3962520"/>
              <a:ext cx="3275280" cy="2863440"/>
              <a:chOff x="533520" y="3962520"/>
              <a:chExt cx="3275280" cy="2863440"/>
            </a:xfrm>
          </p:grpSpPr>
          <p:grpSp>
            <p:nvGrpSpPr>
              <p:cNvPr id="150" name=""/>
              <p:cNvGrpSpPr/>
              <p:nvPr/>
            </p:nvGrpSpPr>
            <p:grpSpPr>
              <a:xfrm>
                <a:off x="1676160" y="3962520"/>
                <a:ext cx="1675440" cy="1736640"/>
                <a:chOff x="1676160" y="3962520"/>
                <a:chExt cx="1675440" cy="1736640"/>
              </a:xfrm>
            </p:grpSpPr>
            <p:grpSp>
              <p:nvGrpSpPr>
                <p:cNvPr id="151" name=""/>
                <p:cNvGrpSpPr/>
                <p:nvPr/>
              </p:nvGrpSpPr>
              <p:grpSpPr>
                <a:xfrm>
                  <a:off x="2056680" y="3962520"/>
                  <a:ext cx="1294920" cy="1492200"/>
                  <a:chOff x="2056680" y="3962520"/>
                  <a:chExt cx="1294920" cy="1492200"/>
                </a:xfrm>
              </p:grpSpPr>
              <p:pic>
                <p:nvPicPr>
                  <p:cNvPr id="152" name="server_olivier_boyer_01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437560" y="39625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53" name="server_olivier_boyer_0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056680" y="417528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54" name="server_olivier_boyer_01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1676160" y="44197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55" name=""/>
              <p:cNvGrpSpPr/>
              <p:nvPr/>
            </p:nvGrpSpPr>
            <p:grpSpPr>
              <a:xfrm>
                <a:off x="533520" y="4647960"/>
                <a:ext cx="1675440" cy="1736640"/>
                <a:chOff x="533520" y="4647960"/>
                <a:chExt cx="1675440" cy="1736640"/>
              </a:xfrm>
            </p:grpSpPr>
            <p:grpSp>
              <p:nvGrpSpPr>
                <p:cNvPr id="156" name=""/>
                <p:cNvGrpSpPr/>
                <p:nvPr/>
              </p:nvGrpSpPr>
              <p:grpSpPr>
                <a:xfrm>
                  <a:off x="914040" y="4647960"/>
                  <a:ext cx="1294920" cy="1492200"/>
                  <a:chOff x="914040" y="4647960"/>
                  <a:chExt cx="1294920" cy="1492200"/>
                </a:xfrm>
              </p:grpSpPr>
              <p:pic>
                <p:nvPicPr>
                  <p:cNvPr id="157" name="server_olivier_boyer_0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94920" y="464796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58" name="server_olivier_boyer_01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914040" y="48607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59" name="server_olivier_boyer_01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533520" y="510516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60" name=""/>
              <p:cNvGrpSpPr/>
              <p:nvPr/>
            </p:nvGrpSpPr>
            <p:grpSpPr>
              <a:xfrm>
                <a:off x="2133360" y="4403520"/>
                <a:ext cx="1675440" cy="1736640"/>
                <a:chOff x="2133360" y="4403520"/>
                <a:chExt cx="1675440" cy="1736640"/>
              </a:xfrm>
            </p:grpSpPr>
            <p:grpSp>
              <p:nvGrpSpPr>
                <p:cNvPr id="161" name=""/>
                <p:cNvGrpSpPr/>
                <p:nvPr/>
              </p:nvGrpSpPr>
              <p:grpSpPr>
                <a:xfrm>
                  <a:off x="2513880" y="4403520"/>
                  <a:ext cx="1294920" cy="1492200"/>
                  <a:chOff x="2513880" y="4403520"/>
                  <a:chExt cx="1294920" cy="1492200"/>
                </a:xfrm>
              </p:grpSpPr>
              <p:pic>
                <p:nvPicPr>
                  <p:cNvPr id="162" name="server_olivier_boyer_01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2894760" y="44035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63" name="server_olivier_boyer_0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513880" y="461628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64" name="server_olivier_boyer_01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2133360" y="48607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65" name=""/>
              <p:cNvGrpSpPr/>
              <p:nvPr/>
            </p:nvGrpSpPr>
            <p:grpSpPr>
              <a:xfrm>
                <a:off x="990360" y="5089320"/>
                <a:ext cx="1675440" cy="1736640"/>
                <a:chOff x="990360" y="5089320"/>
                <a:chExt cx="1675440" cy="1736640"/>
              </a:xfrm>
            </p:grpSpPr>
            <p:grpSp>
              <p:nvGrpSpPr>
                <p:cNvPr id="166" name=""/>
                <p:cNvGrpSpPr/>
                <p:nvPr/>
              </p:nvGrpSpPr>
              <p:grpSpPr>
                <a:xfrm>
                  <a:off x="1370880" y="5089320"/>
                  <a:ext cx="1294920" cy="1492200"/>
                  <a:chOff x="1370880" y="5089320"/>
                  <a:chExt cx="1294920" cy="1492200"/>
                </a:xfrm>
              </p:grpSpPr>
              <p:pic>
                <p:nvPicPr>
                  <p:cNvPr id="167" name="server_olivier_boyer_01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751760" y="50893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68" name="server_olivier_boyer_01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1370880" y="530208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69" name="server_olivier_boyer_0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990360" y="55465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70" name=""/>
            <p:cNvSpPr/>
            <p:nvPr/>
          </p:nvSpPr>
          <p:spPr>
            <a:xfrm>
              <a:off x="533520" y="6324480"/>
              <a:ext cx="3276360" cy="457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</a:rPr>
                <a:t>Cluster B @ TaiChu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3352680" y="762120"/>
              <a:ext cx="2514600" cy="1949400"/>
              <a:chOff x="3352680" y="762120"/>
              <a:chExt cx="2514600" cy="1949400"/>
            </a:xfrm>
          </p:grpSpPr>
          <p:grpSp>
            <p:nvGrpSpPr>
              <p:cNvPr id="172" name=""/>
              <p:cNvGrpSpPr/>
              <p:nvPr/>
            </p:nvGrpSpPr>
            <p:grpSpPr>
              <a:xfrm>
                <a:off x="3352680" y="762120"/>
                <a:ext cx="1675440" cy="1736640"/>
                <a:chOff x="3352680" y="762120"/>
                <a:chExt cx="1675440" cy="1736640"/>
              </a:xfrm>
            </p:grpSpPr>
            <p:grpSp>
              <p:nvGrpSpPr>
                <p:cNvPr id="173" name=""/>
                <p:cNvGrpSpPr/>
                <p:nvPr/>
              </p:nvGrpSpPr>
              <p:grpSpPr>
                <a:xfrm>
                  <a:off x="3733200" y="762120"/>
                  <a:ext cx="1294920" cy="1492200"/>
                  <a:chOff x="3733200" y="762120"/>
                  <a:chExt cx="1294920" cy="1492200"/>
                </a:xfrm>
              </p:grpSpPr>
              <p:pic>
                <p:nvPicPr>
                  <p:cNvPr id="174" name="server_olivier_boyer_01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4114080" y="7621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75" name="server_olivier_boyer_01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733200" y="97488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76" name="server_olivier_boyer_01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3352680" y="12193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77" name=""/>
              <p:cNvGrpSpPr/>
              <p:nvPr/>
            </p:nvGrpSpPr>
            <p:grpSpPr>
              <a:xfrm>
                <a:off x="4190760" y="974880"/>
                <a:ext cx="1676520" cy="1736640"/>
                <a:chOff x="4190760" y="974880"/>
                <a:chExt cx="1676520" cy="1736640"/>
              </a:xfrm>
            </p:grpSpPr>
            <p:grpSp>
              <p:nvGrpSpPr>
                <p:cNvPr id="178" name=""/>
                <p:cNvGrpSpPr/>
                <p:nvPr/>
              </p:nvGrpSpPr>
              <p:grpSpPr>
                <a:xfrm>
                  <a:off x="4571640" y="974880"/>
                  <a:ext cx="1295640" cy="1492200"/>
                  <a:chOff x="4571640" y="974880"/>
                  <a:chExt cx="1295640" cy="1492200"/>
                </a:xfrm>
              </p:grpSpPr>
              <p:pic>
                <p:nvPicPr>
                  <p:cNvPr id="179" name="server_olivier_boyer_01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952880" y="974880"/>
                    <a:ext cx="91440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80" name="server_olivier_boyer_01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4571640" y="1187640"/>
                    <a:ext cx="91440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81" name="server_olivier_boyer_01" descr=""/>
                <p:cNvPicPr/>
                <p:nvPr/>
              </p:nvPicPr>
              <p:blipFill>
                <a:blip r:embed="rId30"/>
                <a:stretch/>
              </p:blipFill>
              <p:spPr>
                <a:xfrm>
                  <a:off x="4190760" y="1432080"/>
                  <a:ext cx="91440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82" name=""/>
            <p:cNvSpPr/>
            <p:nvPr/>
          </p:nvSpPr>
          <p:spPr>
            <a:xfrm>
              <a:off x="3200400" y="76320"/>
              <a:ext cx="2666880" cy="7617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oad Balanc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Web Service Far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33520" y="2438280"/>
              <a:ext cx="8076960" cy="1676520"/>
            </a:xfrm>
            <a:prstGeom prst="rect">
              <a:avLst/>
            </a:prstGeom>
            <a:solidFill>
              <a:srgbClr val="ff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0" bIns="36000" anchor="b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</a:rPr>
                <a:t>Hadoop Distributed File 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9480" y="2971800"/>
              <a:ext cx="7848720" cy="3049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</a:rPr>
                <a:t>MapReduce AP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33520" y="2057400"/>
              <a:ext cx="8076960" cy="380880"/>
            </a:xfrm>
            <a:prstGeom prst="rect">
              <a:avLst/>
            </a:prstGeom>
            <a:solidFill>
              <a:srgbClr val="ffff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</a:rPr>
                <a:t>Object Database - HyperTa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33520" y="1676520"/>
              <a:ext cx="8076960" cy="38088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rvice-Oriented Architecture (SO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09480" y="3352680"/>
              <a:ext cx="83844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676520" y="3352680"/>
              <a:ext cx="9144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819520" y="3352680"/>
              <a:ext cx="83808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486400" y="3352680"/>
              <a:ext cx="83808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553080" y="3352680"/>
              <a:ext cx="9144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620120" y="3352680"/>
              <a:ext cx="83808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676520" y="2514600"/>
              <a:ext cx="914400" cy="3808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553080" y="2514600"/>
              <a:ext cx="914400" cy="3808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1219320" y="289548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2437920" y="2895480"/>
              <a:ext cx="7621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88" idx="0"/>
              <a:endCxn id="193" idx="2"/>
            </p:cNvCxnSpPr>
            <p:nvPr/>
          </p:nvCxnSpPr>
          <p:spPr>
            <a:xfrm flipV="1">
              <a:off x="2133360" y="2895120"/>
              <a:ext cx="108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8" name=""/>
            <p:cNvCxnSpPr>
              <a:stCxn id="191" idx="0"/>
              <a:endCxn id="194" idx="2"/>
            </p:cNvCxnSpPr>
            <p:nvPr/>
          </p:nvCxnSpPr>
          <p:spPr>
            <a:xfrm flipV="1">
              <a:off x="7009920" y="2895120"/>
              <a:ext cx="108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9" name=""/>
            <p:cNvSpPr/>
            <p:nvPr/>
          </p:nvSpPr>
          <p:spPr>
            <a:xfrm flipV="1">
              <a:off x="6019920" y="289548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 flipV="1">
              <a:off x="7162920" y="289548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33520" y="1295280"/>
              <a:ext cx="8076960" cy="381240"/>
            </a:xfrm>
            <a:prstGeom prst="rect">
              <a:avLst/>
            </a:prstGeom>
            <a:solidFill>
              <a:srgbClr val="cc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</a:rPr>
                <a:t>Web Application Framework - Ruby on Rails (RoR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2133720" y="22856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7010280" y="22856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533520" y="4114800"/>
              <a:ext cx="8076600" cy="2133360"/>
              <a:chOff x="533520" y="4114800"/>
              <a:chExt cx="8076600" cy="2133360"/>
            </a:xfrm>
          </p:grpSpPr>
          <p:grpSp>
            <p:nvGrpSpPr>
              <p:cNvPr id="205" name=""/>
              <p:cNvGrpSpPr/>
              <p:nvPr/>
            </p:nvGrpSpPr>
            <p:grpSpPr>
              <a:xfrm>
                <a:off x="5334120" y="4114800"/>
                <a:ext cx="3276000" cy="2133360"/>
                <a:chOff x="5334120" y="4114800"/>
                <a:chExt cx="3276000" cy="213336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5334120" y="5943600"/>
                  <a:ext cx="3276000" cy="30456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Hardwar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5334120" y="5029200"/>
                  <a:ext cx="3276000" cy="30456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Times New Roman"/>
                    </a:rPr>
                    <a:t>DRBL / Clonezill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7110360" y="5333760"/>
                  <a:ext cx="149976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Times New Roman"/>
                    </a:rPr>
                    <a:t>Kerrighe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5334120" y="5333760"/>
                  <a:ext cx="177624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GPF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334120" y="5638680"/>
                  <a:ext cx="327600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Linux Kerne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5334120" y="4724280"/>
                  <a:ext cx="327600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MPI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334120" y="4419360"/>
                  <a:ext cx="327600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R-MPI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5334120" y="4114800"/>
                  <a:ext cx="3276000" cy="30456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Gene Dominant Index (GDI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533520" y="4114800"/>
                <a:ext cx="3276000" cy="2133360"/>
                <a:chOff x="533520" y="4114800"/>
                <a:chExt cx="3276000" cy="213336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533520" y="5943600"/>
                  <a:ext cx="3276000" cy="30456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Hardwar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533520" y="5029200"/>
                  <a:ext cx="3276000" cy="30456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Times New Roman"/>
                    </a:rPr>
                    <a:t>DRBL / Clonezill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2309760" y="5333760"/>
                  <a:ext cx="149976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Times New Roman"/>
                    </a:rPr>
                    <a:t>Kerrighe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533520" y="5333760"/>
                  <a:ext cx="177624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GPF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533520" y="5638680"/>
                  <a:ext cx="327600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Linux Kerne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533520" y="4724280"/>
                  <a:ext cx="327600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MPI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533520" y="4419360"/>
                  <a:ext cx="327600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R-MPI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33520" y="4114800"/>
                  <a:ext cx="3276000" cy="30456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Gene Dominant Index (GDI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01:27:16Z</dcterms:created>
  <dc:creator>Human</dc:creator>
  <dc:description/>
  <dc:language>en-US</dc:language>
  <cp:lastModifiedBy>Human</cp:lastModifiedBy>
  <dcterms:modified xsi:type="dcterms:W3CDTF">2008-03-31T07:10:31Z</dcterms:modified>
  <cp:revision>12</cp:revision>
  <dc:subject/>
  <dc:title>PowerPoint 簡報</dc:title>
</cp:coreProperties>
</file>