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1FA8-4784-4C7F-AFA5-1093EB87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F098-60A1-4DA4-AEC6-66CB7544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C10C-C086-463B-9A5E-66E6F2A1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746-37C7-4A3E-9250-A50871C3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C43D-D25D-4ABE-BD50-92303C6E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675-CE8D-470C-B555-E680FA4A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4FC-E705-47FB-920D-DEC113ED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39C0-D10F-4F67-BDEC-412BCDF2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8DB-E6EB-45A4-A153-2F684794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CE9F-961A-4355-A7CA-9B09FD3F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0228-B409-4065-BA3E-E9B1CFDB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C0B-14C7-4B46-87DC-A050F691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4B45-8800-4F43-8716-41F4101CD74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2349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82920" y="3718080"/>
            <a:ext cx="122580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 flipH="1">
            <a:off x="4896000" y="3213000"/>
            <a:ext cx="35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" name=""/>
          <p:cNvSpPr/>
          <p:nvPr/>
        </p:nvSpPr>
        <p:spPr>
          <a:xfrm>
            <a:off x="2987640" y="4149720"/>
            <a:ext cx="115272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5" idx="4"/>
            <a:endCxn id="41" idx="0"/>
          </p:cNvCxnSpPr>
          <p:nvPr/>
        </p:nvCxnSpPr>
        <p:spPr>
          <a:xfrm flipH="1">
            <a:off x="4931280" y="1484280"/>
            <a:ext cx="36360" cy="86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5280" y="220500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407664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7" idx="2"/>
            <a:endCxn id="48" idx="1"/>
          </p:cNvCxnSpPr>
          <p:nvPr/>
        </p:nvCxnSpPr>
        <p:spPr>
          <a:xfrm flipH="1">
            <a:off x="3960000" y="3068640"/>
            <a:ext cx="972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"/>
          <p:cNvSpPr/>
          <p:nvPr/>
        </p:nvSpPr>
        <p:spPr>
          <a:xfrm>
            <a:off x="5364000" y="4149720"/>
            <a:ext cx="122580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7" idx="2"/>
            <a:endCxn id="50" idx="1"/>
          </p:cNvCxnSpPr>
          <p:nvPr/>
        </p:nvCxnSpPr>
        <p:spPr>
          <a:xfrm>
            <a:off x="4932360" y="3068280"/>
            <a:ext cx="104544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1476360" y="472428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486900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7" idx="0"/>
          </p:cNvCxnSpPr>
          <p:nvPr/>
        </p:nvCxnSpPr>
        <p:spPr>
          <a:xfrm flipH="1">
            <a:off x="4931640" y="1484280"/>
            <a:ext cx="35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1341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Master (like D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4508640"/>
            <a:ext cx="122544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472428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6" idx="0"/>
            <a:endCxn id="59" idx="2"/>
          </p:cNvCxnSpPr>
          <p:nvPr/>
        </p:nvCxnSpPr>
        <p:spPr>
          <a:xfrm flipH="1" flipV="1" rot="5400000">
            <a:off x="3059280" y="-26640"/>
            <a:ext cx="361080" cy="237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9" idx="4"/>
            <a:endCxn id="56" idx="3"/>
          </p:cNvCxnSpPr>
          <p:nvPr/>
        </p:nvCxnSpPr>
        <p:spPr>
          <a:xfrm rot="5400000">
            <a:off x="4012560" y="818640"/>
            <a:ext cx="289440" cy="16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975120" y="183816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t * from Table #1 where Row =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080" y="5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292640"/>
            <a:ext cx="1152720" cy="1079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5640" y="4005360"/>
            <a:ext cx="1152360" cy="10792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14172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285264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9" idx="6"/>
            <a:endCxn id="66" idx="3"/>
          </p:cNvCxnSpPr>
          <p:nvPr/>
        </p:nvCxnSpPr>
        <p:spPr>
          <a:xfrm flipH="1">
            <a:off x="4427280" y="980640"/>
            <a:ext cx="1080000" cy="2592720"/>
          </a:xfrm>
          <a:prstGeom prst="bentConnector3">
            <a:avLst>
              <a:gd name="adj1" fmla="val -211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4" idx="0"/>
            <a:endCxn id="59" idx="5"/>
          </p:cNvCxnSpPr>
          <p:nvPr/>
        </p:nvCxnSpPr>
        <p:spPr>
          <a:xfrm flipH="1" flipV="1" rot="5400000">
            <a:off x="2005560" y="949680"/>
            <a:ext cx="2956680" cy="3729600"/>
          </a:xfrm>
          <a:prstGeom prst="bentConnector3">
            <a:avLst>
              <a:gd name="adj1" fmla="val 475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6:32:12Z</dcterms:created>
  <dc:creator>chtti</dc:creator>
  <dc:description/>
  <dc:language>en-US</dc:language>
  <cp:lastModifiedBy>chtti</cp:lastModifiedBy>
  <dcterms:modified xsi:type="dcterms:W3CDTF">2012-06-25T07:25:45Z</dcterms:modified>
  <cp:revision>2</cp:revision>
  <dc:subject/>
  <dc:title>投影片 1</dc:title>
</cp:coreProperties>
</file>