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567D-5EC6-48AD-A9B9-09031D64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3ABE-FFA6-4F09-9B67-DB8B6FCA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D18-B0CF-46C5-A476-B7789C53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A820-838C-452A-9C42-7CA13E5C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8537-A1CC-4E84-8BB6-C84AFCD1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6F19-EE6A-46AF-9116-0D4C49F1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CB07-FADB-47B2-87A3-DDED34AA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B626-1F88-48A0-A766-BF7B4BBC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A058-9220-4EDE-977C-6C02B8B7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C948-C5CC-43B1-BD1E-544D2F1C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3E91-0D76-48C5-84F9-2F8A3FAA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44F4-BE60-43C9-9EB3-A83B915C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764A-FF28-4DB8-9E21-CB56DA00CEB1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5280" y="234936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82920" y="3718080"/>
            <a:ext cx="122580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2"/>
            <a:endCxn id="42" idx="1"/>
          </p:cNvCxnSpPr>
          <p:nvPr/>
        </p:nvCxnSpPr>
        <p:spPr>
          <a:xfrm flipH="1">
            <a:off x="4896000" y="3213000"/>
            <a:ext cx="35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" name=""/>
          <p:cNvSpPr/>
          <p:nvPr/>
        </p:nvSpPr>
        <p:spPr>
          <a:xfrm>
            <a:off x="2987640" y="4149720"/>
            <a:ext cx="115272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5" idx="4"/>
            <a:endCxn id="41" idx="0"/>
          </p:cNvCxnSpPr>
          <p:nvPr/>
        </p:nvCxnSpPr>
        <p:spPr>
          <a:xfrm flipH="1">
            <a:off x="4931280" y="1484280"/>
            <a:ext cx="36360" cy="86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5280" y="220500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4076640"/>
            <a:ext cx="122544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7" idx="2"/>
            <a:endCxn id="48" idx="1"/>
          </p:cNvCxnSpPr>
          <p:nvPr/>
        </p:nvCxnSpPr>
        <p:spPr>
          <a:xfrm flipH="1">
            <a:off x="3960000" y="3068640"/>
            <a:ext cx="97236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" name=""/>
          <p:cNvSpPr/>
          <p:nvPr/>
        </p:nvSpPr>
        <p:spPr>
          <a:xfrm>
            <a:off x="5364000" y="4149720"/>
            <a:ext cx="122580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7" idx="2"/>
            <a:endCxn id="50" idx="1"/>
          </p:cNvCxnSpPr>
          <p:nvPr/>
        </p:nvCxnSpPr>
        <p:spPr>
          <a:xfrm>
            <a:off x="4932360" y="3068280"/>
            <a:ext cx="104544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" name=""/>
          <p:cNvSpPr/>
          <p:nvPr/>
        </p:nvSpPr>
        <p:spPr>
          <a:xfrm>
            <a:off x="1476360" y="4724280"/>
            <a:ext cx="151128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4869000"/>
            <a:ext cx="151128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4"/>
            <a:endCxn id="47" idx="0"/>
          </p:cNvCxnSpPr>
          <p:nvPr/>
        </p:nvCxnSpPr>
        <p:spPr>
          <a:xfrm flipH="1">
            <a:off x="4931640" y="1484280"/>
            <a:ext cx="35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55640" y="134136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Master (like D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4508640"/>
            <a:ext cx="122544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4724280"/>
            <a:ext cx="122544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6" idx="0"/>
            <a:endCxn id="59" idx="2"/>
          </p:cNvCxnSpPr>
          <p:nvPr/>
        </p:nvCxnSpPr>
        <p:spPr>
          <a:xfrm flipH="1" flipV="1" rot="5400000">
            <a:off x="3059280" y="-26640"/>
            <a:ext cx="361080" cy="237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9" idx="4"/>
            <a:endCxn id="56" idx="3"/>
          </p:cNvCxnSpPr>
          <p:nvPr/>
        </p:nvCxnSpPr>
        <p:spPr>
          <a:xfrm rot="5400000">
            <a:off x="4012560" y="818640"/>
            <a:ext cx="289440" cy="16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3975120" y="183816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t * from Table #1 where Row =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1080" y="5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292640"/>
            <a:ext cx="1152720" cy="1079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#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75640" y="4005360"/>
            <a:ext cx="1152360" cy="107928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#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314172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RegionServer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285264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RegionServer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59" idx="6"/>
            <a:endCxn id="66" idx="3"/>
          </p:cNvCxnSpPr>
          <p:nvPr/>
        </p:nvCxnSpPr>
        <p:spPr>
          <a:xfrm flipH="1">
            <a:off x="4427280" y="980640"/>
            <a:ext cx="1080000" cy="2592720"/>
          </a:xfrm>
          <a:prstGeom prst="bentConnector3">
            <a:avLst>
              <a:gd name="adj1" fmla="val -211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4" idx="0"/>
            <a:endCxn id="59" idx="5"/>
          </p:cNvCxnSpPr>
          <p:nvPr/>
        </p:nvCxnSpPr>
        <p:spPr>
          <a:xfrm flipH="1" flipV="1" rot="5400000">
            <a:off x="2005560" y="949680"/>
            <a:ext cx="2956680" cy="3729600"/>
          </a:xfrm>
          <a:prstGeom prst="bentConnector3">
            <a:avLst>
              <a:gd name="adj1" fmla="val 475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6:32:12Z</dcterms:created>
  <dc:creator>chtti</dc:creator>
  <dc:description/>
  <dc:language>en-US</dc:language>
  <cp:lastModifiedBy>chtti</cp:lastModifiedBy>
  <dcterms:modified xsi:type="dcterms:W3CDTF">2012-06-25T07:25:45Z</dcterms:modified>
  <cp:revision>2</cp:revision>
  <dc:subject/>
  <dc:title>投影片 1</dc:title>
</cp:coreProperties>
</file>