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7677-4DE4-47BC-963A-C500B4011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5F87-4AC4-4BF8-ADF1-27D776AD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366E-1775-4CB8-A62F-0E8107BA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CEDE-F34E-4660-97E9-E4CC20C6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7D57-78C1-46CE-A388-41CC85DC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069-429D-4AAF-8E01-4373E276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44B2-2BB8-4B6E-896A-73BB9BE0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6C2D-7052-4A5D-A745-4659F17E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7B05-93E6-439E-B4AD-FE129F23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909C-F6D5-428A-BDCD-E65DEF31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124B-6B50-42E4-9BB5-7FF41039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D4DD-4B15-4C74-89AD-BB3B9C3E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8726-273E-4852-8862-8373978C5B5C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5280" y="234936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82920" y="3718080"/>
            <a:ext cx="122580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2"/>
            <a:endCxn id="42" idx="1"/>
          </p:cNvCxnSpPr>
          <p:nvPr/>
        </p:nvCxnSpPr>
        <p:spPr>
          <a:xfrm flipH="1">
            <a:off x="4896000" y="3213000"/>
            <a:ext cx="35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" name=""/>
          <p:cNvSpPr/>
          <p:nvPr/>
        </p:nvSpPr>
        <p:spPr>
          <a:xfrm>
            <a:off x="2987640" y="4149720"/>
            <a:ext cx="115272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5" idx="4"/>
            <a:endCxn id="41" idx="0"/>
          </p:cNvCxnSpPr>
          <p:nvPr/>
        </p:nvCxnSpPr>
        <p:spPr>
          <a:xfrm flipH="1">
            <a:off x="4931280" y="1484280"/>
            <a:ext cx="36360" cy="86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5280" y="220500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4076640"/>
            <a:ext cx="122544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7" idx="2"/>
            <a:endCxn id="48" idx="1"/>
          </p:cNvCxnSpPr>
          <p:nvPr/>
        </p:nvCxnSpPr>
        <p:spPr>
          <a:xfrm flipH="1">
            <a:off x="3960000" y="3068640"/>
            <a:ext cx="97236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" name=""/>
          <p:cNvSpPr/>
          <p:nvPr/>
        </p:nvSpPr>
        <p:spPr>
          <a:xfrm>
            <a:off x="5364000" y="4149720"/>
            <a:ext cx="122580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7" idx="2"/>
            <a:endCxn id="50" idx="1"/>
          </p:cNvCxnSpPr>
          <p:nvPr/>
        </p:nvCxnSpPr>
        <p:spPr>
          <a:xfrm>
            <a:off x="4932360" y="3068280"/>
            <a:ext cx="104544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" name=""/>
          <p:cNvSpPr/>
          <p:nvPr/>
        </p:nvSpPr>
        <p:spPr>
          <a:xfrm>
            <a:off x="1476360" y="4724280"/>
            <a:ext cx="151128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4869000"/>
            <a:ext cx="151128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4"/>
            <a:endCxn id="47" idx="0"/>
          </p:cNvCxnSpPr>
          <p:nvPr/>
        </p:nvCxnSpPr>
        <p:spPr>
          <a:xfrm flipH="1">
            <a:off x="4931640" y="1484280"/>
            <a:ext cx="35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55640" y="134136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Master (like D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4508640"/>
            <a:ext cx="122544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4724280"/>
            <a:ext cx="122544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6" idx="0"/>
            <a:endCxn id="59" idx="2"/>
          </p:cNvCxnSpPr>
          <p:nvPr/>
        </p:nvCxnSpPr>
        <p:spPr>
          <a:xfrm flipH="1" flipV="1" rot="5400000">
            <a:off x="3059280" y="-26640"/>
            <a:ext cx="361080" cy="237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9" idx="4"/>
            <a:endCxn id="56" idx="3"/>
          </p:cNvCxnSpPr>
          <p:nvPr/>
        </p:nvCxnSpPr>
        <p:spPr>
          <a:xfrm rot="5400000">
            <a:off x="4012560" y="818640"/>
            <a:ext cx="289440" cy="16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3975120" y="183816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t * from Table #1 where Row =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1080" y="5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292640"/>
            <a:ext cx="1152720" cy="1079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#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75640" y="4005360"/>
            <a:ext cx="1152360" cy="107928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#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314172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RegionServer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285264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RegionServer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59" idx="6"/>
            <a:endCxn id="66" idx="3"/>
          </p:cNvCxnSpPr>
          <p:nvPr/>
        </p:nvCxnSpPr>
        <p:spPr>
          <a:xfrm flipH="1">
            <a:off x="4427280" y="980640"/>
            <a:ext cx="1080000" cy="2592720"/>
          </a:xfrm>
          <a:prstGeom prst="bentConnector3">
            <a:avLst>
              <a:gd name="adj1" fmla="val -211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4" idx="0"/>
            <a:endCxn id="59" idx="5"/>
          </p:cNvCxnSpPr>
          <p:nvPr/>
        </p:nvCxnSpPr>
        <p:spPr>
          <a:xfrm flipH="1" flipV="1" rot="5400000">
            <a:off x="2005560" y="949680"/>
            <a:ext cx="2956680" cy="3729600"/>
          </a:xfrm>
          <a:prstGeom prst="bentConnector3">
            <a:avLst>
              <a:gd name="adj1" fmla="val 475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6:32:12Z</dcterms:created>
  <dc:creator>chtti</dc:creator>
  <dc:description/>
  <dc:language>en-US</dc:language>
  <cp:lastModifiedBy>chtti</cp:lastModifiedBy>
  <dcterms:modified xsi:type="dcterms:W3CDTF">2012-06-25T07:25:45Z</dcterms:modified>
  <cp:revision>2</cp:revision>
  <dc:subject/>
  <dc:title>投影片 1</dc:title>
</cp:coreProperties>
</file>